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6.jpeg" ContentType="image/jpeg"/>
  <Override PartName="/ppt/media/image38.png" ContentType="image/png"/>
  <Override PartName="/ppt/media/image41.wmf" ContentType="image/x-wmf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8.png" ContentType="image/png"/>
  <Override PartName="/ppt/media/image33.wmf" ContentType="image/x-wmf"/>
  <Override PartName="/ppt/media/image8.wmf" ContentType="image/x-wmf"/>
  <Override PartName="/ppt/media/image13.png" ContentType="image/png"/>
  <Override PartName="/ppt/media/image40.wmf" ContentType="image/x-wmf"/>
  <Override PartName="/ppt/media/image37.png" ContentType="image/png"/>
  <Override PartName="/ppt/media/image49.png" ContentType="image/png"/>
  <Override PartName="/ppt/media/image9.wmf" ContentType="image/x-wmf"/>
  <Override PartName="/ppt/media/image47.png" ContentType="image/png"/>
  <Override PartName="/ppt/media/image35.jpeg" ContentType="image/jpeg"/>
  <Override PartName="/ppt/media/image31.wmf" ContentType="image/x-wmf"/>
  <Override PartName="/ppt/media/image6.wmf" ContentType="image/x-wmf"/>
  <Override PartName="/ppt/media/image10.wmf" ContentType="image/x-wmf"/>
  <Override PartName="/ppt/media/image25.jpeg" ContentType="image/jpeg"/>
  <Override PartName="/ppt/media/image12.wmf" ContentType="image/x-wmf"/>
  <Override PartName="/ppt/media/image4.png" ContentType="image/png"/>
  <Override PartName="/ppt/media/image34.png" ContentType="image/png"/>
  <Override PartName="/ppt/media/image7.wmf" ContentType="image/x-wmf"/>
  <Override PartName="/ppt/media/image30.jpeg" ContentType="image/jpeg"/>
  <Override PartName="/ppt/media/image11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DF5D-1907-492A-8A8E-E403626B9FB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B92C-0FA1-4F73-8B6F-0ABEDB97361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A37E-A0CC-4330-982C-FE1208F1FC7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4E3DC1F-A141-462D-9ECD-B197C507CE5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BE05-322B-4F52-A0BD-19F854D9EE1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E21-5190-4D1A-8734-940AD64D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220-AC21-4E77-A4AE-56884B3F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680-9247-4E92-B06F-2C71DE1E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6C7-7E0D-4818-B937-617C22A3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222F8-5C61-4B8A-989D-5AFEBC26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0E2E7-61B9-4C4D-89AB-38F78797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9163F-D75E-4F03-BA62-EBAF634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8DA6-AFD6-4EF2-85DD-31531E1B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E6F9D-1CB6-494F-9F87-72DB1225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AE31A-EEB9-42A9-8B9A-C7C42134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0D9D3-9CCE-4417-A8F6-33A7EFC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65D-E18E-4313-B3BA-8763B3D1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05050-5DFC-4C86-AF2B-3C377DAF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CB721-93AF-470E-9CAA-CF7814F8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F2159-D11C-427E-AFF7-14B753BB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DB1BA-2695-43E0-A14D-B3A2D2F4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F3713-C1EC-4A1D-B330-ECDE728D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E40-4E0B-4B0F-B922-8C59F2B5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E7B-2B4D-4A17-8E0E-8039366B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29B-A0BF-46C6-AF87-FAC3AD9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A1C-B7A4-4C6C-BDED-E52D6EC3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09F-E862-4CB8-9BFE-A82190F1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1A4-BACB-4E54-93AB-BB1C5F82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B41-E8B9-44EA-B5D0-402E3EC8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9FDE-EF21-47D4-BD33-6A88FDCF53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B050-B92D-47C3-81EB-9406FFA8D4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468360" y="1916280"/>
            <a:ext cx="8280360" cy="2135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UPP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Uboczne Produkty Pochodzenia Zwierzęce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4995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Wytyczne dla PL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691920"/>
            <a:ext cx="78184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3bb1e"/>
                </a:solidFill>
                <a:latin typeface="Century Gothic"/>
                <a:ea typeface="Arial"/>
              </a:rPr>
              <a:t>Stosowne wytyczne dotyczące nadawania uprawnień umożliwiających export PAP przekazane zostaną PLW w styczniu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3bb1e"/>
                </a:solidFill>
                <a:latin typeface="Century Gothic"/>
                <a:ea typeface="Arial"/>
              </a:rPr>
              <a:t>Na ich podstawie PLW dokonają kontroli zainteresowanych zakładów, które po spełnieniu wymogów otrzymają stosowne pozwolenia uprawniające je do eksportu P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Ustalenia z nieformalnego spotkania roboczego z KE w Antwerpii (8-11.12.2015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lanowana zmiana definicji pet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prowadzenie definicji „podmiotu aranżującego transport” – rejestrac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Zaimportowanie rejestrów podmiotów narodowych sektora utylizacyjnego do systemu TR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cześniejsza zgodna kompetentnej władzy kraju docelowego w UE na przywóz P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zmocnienie współpracy ze Służbą Cel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Uw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ymbol zastępczy zawartości 2"/>
          <p:cNvSpPr/>
          <p:nvPr/>
        </p:nvSpPr>
        <p:spPr>
          <a:xfrm>
            <a:off x="395280" y="2205000"/>
            <a:ext cx="8229600" cy="4319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AŻDA WYSYŁKA PAP JEST ODNOTOWYWANA PRZEZ SŁUŻBĘ CELNĄ A INFORMACJA PRZEKAZYWANA JEST DO PLW WŁAŚCIWEGO DLA MIEJSCA WYSYŁKI P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4"/>
          <p:cNvSpPr/>
          <p:nvPr/>
        </p:nvSpPr>
        <p:spPr>
          <a:xfrm>
            <a:off x="324000" y="1197000"/>
            <a:ext cx="8280360" cy="34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NSPEKCJA WETERYNARYJNA ŚCIŚLE WSPÓŁPRACUJE ZE SŁUŻBĄ CEL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transportowi.pl/wp-content/uploads/2012/11/celnik-386x386.png"/>
          <p:cNvPicPr/>
          <p:nvPr/>
        </p:nvPicPr>
        <p:blipFill>
          <a:blip r:embed="rId1"/>
          <a:stretch/>
        </p:blipFill>
        <p:spPr>
          <a:xfrm>
            <a:off x="5003640" y="3716280"/>
            <a:ext cx="2448000" cy="284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szyldy-reklamy.com/UserFiles/Image/wspolpraca(1).jpg"/>
          <p:cNvPicPr/>
          <p:nvPr/>
        </p:nvPicPr>
        <p:blipFill>
          <a:blip r:embed="rId2"/>
          <a:stretch/>
        </p:blipFill>
        <p:spPr>
          <a:xfrm>
            <a:off x="2700360" y="422100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eltur.com.pl/wp-content/uploads/clipart9.jpg"/>
          <p:cNvPicPr/>
          <p:nvPr/>
        </p:nvPicPr>
        <p:blipFill>
          <a:blip r:embed="rId3"/>
          <a:stretch/>
        </p:blipFill>
        <p:spPr>
          <a:xfrm>
            <a:off x="826920" y="3860640"/>
            <a:ext cx="180036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Urzędowe badania laboratoryjne produktów z kr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8064720" cy="66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krzysztof.bednarczyk\Desktop\Przechwytywanie.JPG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22400" y="2276640"/>
            <a:ext cx="889308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09760" y="2349360"/>
            <a:ext cx="823896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979640" y="1127160"/>
            <a:ext cx="5245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Urzędowe badania laboratoryjne produktów z krwi (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60440" y="1989000"/>
            <a:ext cx="4550040" cy="150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79200" y="3860640"/>
            <a:ext cx="8913960" cy="12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244760" cy="56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324000" y="260280"/>
            <a:ext cx="842472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Surowiec przyjęty do zakładów przetwórczy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62040" y="2060640"/>
            <a:ext cx="7748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324000" y="260280"/>
            <a:ext cx="8424720" cy="825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ykorzystanie surowca do żywienia mięsożernych zwierząt futerkowych (MFZ) w 2014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ymbol zastępczy zawartości 2"/>
          <p:cNvSpPr/>
          <p:nvPr/>
        </p:nvSpPr>
        <p:spPr>
          <a:xfrm>
            <a:off x="28728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5"/>
          <p:cNvSpPr/>
          <p:nvPr/>
        </p:nvSpPr>
        <p:spPr>
          <a:xfrm>
            <a:off x="1270800" y="4519440"/>
            <a:ext cx="2219760" cy="100872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BEZPOŚREDN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FERMĘ MZ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6"/>
          <p:cNvSpPr/>
          <p:nvPr/>
        </p:nvSpPr>
        <p:spPr>
          <a:xfrm>
            <a:off x="4327560" y="4519440"/>
            <a:ext cx="4032360" cy="131364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DO PUN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GROMADZ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entury Gothic"/>
              </a:rPr>
              <a:t>(kuchnia – produkcja karm dla MF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390680" y="1623960"/>
            <a:ext cx="565200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SUROWIEC UPPZ (</a:t>
            </a:r>
            <a:r>
              <a:rPr b="1" lang="pl-PL" sz="2800" spc="-1" strike="noStrike">
                <a:solidFill>
                  <a:srgbClr val="00b050"/>
                </a:solidFill>
                <a:latin typeface="Century Gothic"/>
                <a:ea typeface="Arial"/>
              </a:rPr>
              <a:t>KAT. 3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, </a:t>
            </a:r>
            <a:r>
              <a:rPr b="1" lang="pl-PL" sz="2800" spc="-1" strike="noStrike">
                <a:solidFill>
                  <a:srgbClr val="ffff00"/>
                </a:solidFill>
                <a:latin typeface="Century Gothic"/>
                <a:ea typeface="Arial"/>
              </a:rPr>
              <a:t>KAT. 2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own Arrow 8"/>
          <p:cNvSpPr/>
          <p:nvPr/>
        </p:nvSpPr>
        <p:spPr>
          <a:xfrm>
            <a:off x="1908000" y="2421000"/>
            <a:ext cx="1008360" cy="19447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wn Arrow 10"/>
          <p:cNvSpPr/>
          <p:nvPr/>
        </p:nvSpPr>
        <p:spPr>
          <a:xfrm>
            <a:off x="5796000" y="2421000"/>
            <a:ext cx="1008000" cy="19447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894200" cy="2931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324000" y="260280"/>
            <a:ext cx="8424720" cy="825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Ilość UPPZ wykorzystanych w 2014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bezpośrednio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przez fermy mięsożernych zwierząt futerkow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ymbol zastępczy zawartości 2"/>
          <p:cNvSpPr/>
          <p:nvPr/>
        </p:nvSpPr>
        <p:spPr>
          <a:xfrm>
            <a:off x="28728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591080" y="1603440"/>
            <a:ext cx="3925800" cy="45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87280" y="2427120"/>
            <a:ext cx="5240520" cy="3140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24000" y="260280"/>
            <a:ext cx="842472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Ilość UPPZ wykorzystanych w 2014 r. przez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punkty gromadzenia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do produkcji karm dla mięsożernych zwierząt futerkow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zawartości 2"/>
          <p:cNvSpPr/>
          <p:nvPr/>
        </p:nvSpPr>
        <p:spPr>
          <a:xfrm>
            <a:off x="28728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716360" y="1623960"/>
            <a:ext cx="361476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79280" y="260280"/>
            <a:ext cx="8785440" cy="825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o żywienia mięsożernych zwierząt futerkowych w 2014 r. użyto 269 tys. ton surow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ymbol zastępczy zawartości 2"/>
          <p:cNvSpPr/>
          <p:nvPr/>
        </p:nvSpPr>
        <p:spPr>
          <a:xfrm>
            <a:off x="28728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17760" y="2997360"/>
            <a:ext cx="6037200" cy="36288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2689200" y="1413000"/>
            <a:ext cx="3959280" cy="1228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Century Gothic"/>
              </a:rPr>
              <a:t>269  320 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9160" y="1119240"/>
            <a:ext cx="8834400" cy="21477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e 2014(zakłady przetwórc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5245200" cy="326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5430960" y="4005360"/>
            <a:ext cx="362412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Stwierdzane uchybienia (częs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ymbol zastępczy zawartości 2"/>
          <p:cNvSpPr/>
          <p:nvPr/>
        </p:nvSpPr>
        <p:spPr>
          <a:xfrm>
            <a:off x="336600" y="155736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 odpowiedniej czystości w zakład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/niepełna kalibracja urządzeń pomiarow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i w dokumentacji HAC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prawidłowości w procedurach w zakresie np. D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 zabezpieczenia magazynów przed szkodni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systematyczne wpisy w książkach kontroli sanitarnej pojazdów transportujących UPP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pełny harmonogram pobierania próbek właścicielskich do bada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prawidłowości strukturalne (nierówności i zastoiny wody na drogach wewnętrznych zakła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Stwierdzane uchybienia (rzadk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ymbol zastępczy zawartości 2"/>
          <p:cNvSpPr/>
          <p:nvPr/>
        </p:nvSpPr>
        <p:spPr>
          <a:xfrm>
            <a:off x="336600" y="155736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/nieprawidłowe znakowanie 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kompletne podpisy w dokumentach handl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czytelne oznakowanie środków transpor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magazynowanie produktu poza wyznaczonym magazynem produ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obudowy maszyn skorodowane, zły stan techniczny urządze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 dokumentacji towarzyszącej produktom przyjmowanym i wysyłanym z zakł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  <a:ea typeface="Arial"/>
              </a:rPr>
              <a:t>Minimalna częstotliwość kontroli - od 2015</a:t>
            </a: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33240" y="952560"/>
            <a:ext cx="7804440" cy="5261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293760" y="6259680"/>
            <a:ext cx="843732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324000" y="260280"/>
            <a:ext cx="8424720" cy="947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rzeźni przez Inspektora ds. Utylizacji – główne zad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ymbol zastępczy zawartości 2"/>
          <p:cNvSpPr/>
          <p:nvPr/>
        </p:nvSpPr>
        <p:spPr>
          <a:xfrm>
            <a:off x="336600" y="1557360"/>
            <a:ext cx="8378640" cy="4800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wagi i rodzaju powstających w rzeźni  i  wysyłanych UPPZ, w stosunku do liczby ubijanych zwierząt (bil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warunków przechowywania UPPZ przed wysyłką oraz częstotliwości prowadzonych wysył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uprawnień podmio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ransportujących UPP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- odbierających UPP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dokumentacji handl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95280" y="260280"/>
          <a:ext cx="8280360" cy="6357960"/>
        </p:xfrm>
        <a:graphic>
          <a:graphicData uri="http://schemas.openxmlformats.org/drawingml/2006/table">
            <a:tbl>
              <a:tblPr/>
              <a:tblGrid>
                <a:gridCol w="1117440"/>
                <a:gridCol w="919440"/>
                <a:gridCol w="950760"/>
                <a:gridCol w="951120"/>
                <a:gridCol w="950760"/>
                <a:gridCol w="950760"/>
                <a:gridCol w="816120"/>
                <a:gridCol w="816120"/>
                <a:gridCol w="807840"/>
              </a:tblGrid>
              <a:tr h="4791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atun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ga żyw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 wagi żywca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 tuszy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azem UP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us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kó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P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ę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P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 - S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ydł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30 m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ydł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30 m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zoda chle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79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wce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ró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3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Uw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ymbol zastępczy zawartości 2"/>
          <p:cNvSpPr/>
          <p:nvPr/>
        </p:nvSpPr>
        <p:spPr>
          <a:xfrm>
            <a:off x="336600" y="2349360"/>
            <a:ext cx="8229600" cy="2664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Cross checking – mailowe/telefoniczne sprawdzenie krzyżowe między PIW - PIW czy towar dotarł do punktu przeznaczenia, wskazanego na dokumencie handlow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Uw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ymbol zastępczy zawartości 2"/>
          <p:cNvSpPr/>
          <p:nvPr/>
        </p:nvSpPr>
        <p:spPr>
          <a:xfrm>
            <a:off x="336600" y="2349360"/>
            <a:ext cx="8229600" cy="2664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Wyrywkowa kontrola przesyłek w oparciu o dodatkowe dokumenty przewozowe  tj. np. CMR, WZ, F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Nowe protokoły kontroli SPIWET</a:t>
            </a:r>
            <a:br>
              <a:rPr sz="3600"/>
            </a:br>
            <a:r>
              <a:rPr b="0" lang="pl-PL" sz="2200" spc="-1" strike="noStrike">
                <a:solidFill>
                  <a:srgbClr val="000000"/>
                </a:solidFill>
                <a:latin typeface="Century Gothic"/>
              </a:rPr>
              <a:t>(dostępne na stronie www.wetgiw.gov.p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4360" y="2133720"/>
            <a:ext cx="7775280" cy="3959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1_SPIWET_ZAKŁADY PRZETWÓRC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2_SPIWET_ZAKŁADY POŚRED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3_ SPIWET_SPALARNIE I WSPÓŁSPALAR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4_ SPIWET_TRAN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5_ SPIWET PETF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6_SPIWET_GOSPODARSTWA UTRZYMUJĄCE ZWIERZĘ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FUTERKOWE I STOSUJĄCE UPP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7_SPIWET_GOSPODARSTWA STOSUJĄCE NO/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8_ SPIWET SYSTEM HACC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Kontrole IW na rok 2016 - prioryt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4360" y="2133720"/>
            <a:ext cx="7775280" cy="3959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- zagospodarowanie krwi z rzeź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kontrola uzysku UPPZ w rzeźniach – kontynuac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ydajność produkcyjna w zakładach przetwórcz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zagospodarowanie SRM pochodzącego z uboju gospodarski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kontrola dokumentacji handlowej UPPZ (HD vs. HDI), trece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324000" y="260280"/>
            <a:ext cx="8424720" cy="108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Wzór dokumentu Handlowego przy wysyłce UPPZ/PP W Pols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ymbol zastępczy zawartości 2"/>
          <p:cNvSpPr/>
          <p:nvPr/>
        </p:nvSpPr>
        <p:spPr>
          <a:xfrm>
            <a:off x="441360" y="249228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odstawa praw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Rozporządzenie Ministra Rolnictwa i Rozwoju W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z dnia 19 sierpnia 2014 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 sprawie wzoru dokumentu handlowego stosowanego przy przewozie, wyłącznie na terytorium Rzeczypospolitej Polskiej, produktów ubocznych pochodzenia zwierzęcego i produktów pocho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Dz. U. z 2014, poz. 12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lanowane wejście w życie nowych przepisó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Century Gothic"/>
                <a:ea typeface="Arial"/>
              </a:rPr>
              <a:t>luty – marzec 2016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89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40384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88640"/>
            <a:ext cx="40384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Bookman Old Style"/>
              </a:rPr>
              <a:t>Dokumentacja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</a:rPr>
              <a:t> towarzysząca środkom spożywczym pochodzenia zwierzęcego przeznaczonym do zagospodarowania w zakładach sektora utylizacyjn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</a:rPr>
              <a:t>Przykłady praktycz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kości spożywcze przewożone do zakładu przetwórczeg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Podroby/mięso spożywcze przeznaczone do produkcji karm dla zwierząt domow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łuszcze spożywcze przeznaczone do produkcji biodiesl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leko w proszku spożywcze przeznaczone do produkcji pas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" descr="Kości cielęce"/>
          <p:cNvPicPr/>
          <p:nvPr/>
        </p:nvPicPr>
        <p:blipFill>
          <a:blip r:embed="rId1"/>
          <a:stretch/>
        </p:blipFill>
        <p:spPr>
          <a:xfrm>
            <a:off x="7236000" y="2421000"/>
            <a:ext cx="111096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odroby"/>
          <p:cNvPicPr/>
          <p:nvPr/>
        </p:nvPicPr>
        <p:blipFill>
          <a:blip r:embed="rId2"/>
          <a:stretch/>
        </p:blipFill>
        <p:spPr>
          <a:xfrm>
            <a:off x="3419640" y="3716280"/>
            <a:ext cx="828360" cy="5763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2" descr="C:\Users\krzysztof.bednarczyk\Desktop\olej2-150x150.jpg"/>
          <p:cNvPicPr/>
          <p:nvPr/>
        </p:nvPicPr>
        <p:blipFill>
          <a:blip r:embed="rId3"/>
          <a:stretch/>
        </p:blipFill>
        <p:spPr>
          <a:xfrm>
            <a:off x="7308720" y="414972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3" descr="C:\Users\krzysztof.bednarczyk\Desktop\Mleko_proszku_ktore_moze_6036932 (1).jpg"/>
          <p:cNvPicPr/>
          <p:nvPr/>
        </p:nvPicPr>
        <p:blipFill>
          <a:blip r:embed="rId4"/>
          <a:stretch/>
        </p:blipFill>
        <p:spPr>
          <a:xfrm>
            <a:off x="7667640" y="5084640"/>
            <a:ext cx="93672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643280" y="284040"/>
            <a:ext cx="4175280" cy="638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1" name="Picture 5" descr="http://www.sklep-remib.eu/1079-thickbox_default/handlowy-dokument-identyfikacyjny-samokopiujacy.jpg"/>
          <p:cNvPicPr/>
          <p:nvPr/>
        </p:nvPicPr>
        <p:blipFill>
          <a:blip r:embed="rId2"/>
          <a:stretch/>
        </p:blipFill>
        <p:spPr>
          <a:xfrm>
            <a:off x="250920" y="284040"/>
            <a:ext cx="4213080" cy="6431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02" name="Straight Connector 3"/>
          <p:cNvSpPr/>
          <p:nvPr/>
        </p:nvSpPr>
        <p:spPr>
          <a:xfrm>
            <a:off x="395280" y="549360"/>
            <a:ext cx="3745080" cy="604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7"/>
          <p:cNvSpPr/>
          <p:nvPr/>
        </p:nvSpPr>
        <p:spPr>
          <a:xfrm flipH="1">
            <a:off x="468360" y="404640"/>
            <a:ext cx="3456000" cy="619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5"/>
          <p:cNvSpPr/>
          <p:nvPr/>
        </p:nvSpPr>
        <p:spPr>
          <a:xfrm>
            <a:off x="6165000" y="2637000"/>
            <a:ext cx="15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b050"/>
                </a:solidFill>
                <a:latin typeface="Calibri"/>
                <a:ea typeface="Arial"/>
              </a:rPr>
              <a:t>O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0908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ransport środków spożywczych pochodzenia zwierzęcego do zagospodarowania w zakładach sektora utylizacyj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639800"/>
            <a:ext cx="8229600" cy="452592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ff0000"/>
                </a:solidFill>
                <a:latin typeface="Century Gothic"/>
              </a:rPr>
              <a:t>Przesyłkom powinien towarzyszyć dokument handlowy właściwy dla UPPZ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Art. 2 ust. 1 lit. b rozporządzenia (WE) nr 1069/2009 - produkty pochodzenia zwierzęcego, które nieodwołalną decyzją podmiotu zostały przeznaczone do celów innych niż spożycie przez ludzi, stanowią UPP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Zarówno dokumentacja jak i transport takich produktów powinny być zgodne z zasadami określonymi w rozporządzeniu (WE) nr 1069/2009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Produkty te przewożone są środkami transportu zarejestrowanymi przez IW do przewozu UPPZ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Reasumując, produktom pochodzenia zwierzęcego przewożonym z zakładów sektora spożywczego do zakładów sektora utylizacyjnego, powinien zawsze towarzyszyć dokument handlowy wydany zgodnie z prawem utylizacyjnym a nie prawem żywnościowy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N00537_[1]"/>
          <p:cNvPicPr/>
          <p:nvPr/>
        </p:nvPicPr>
        <p:blipFill>
          <a:blip r:embed="rId1"/>
          <a:stretch/>
        </p:blipFill>
        <p:spPr>
          <a:xfrm>
            <a:off x="6143760" y="3857760"/>
            <a:ext cx="2374920" cy="1484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IN00537_[1]"/>
          <p:cNvPicPr/>
          <p:nvPr/>
        </p:nvPicPr>
        <p:blipFill>
          <a:blip r:embed="rId2"/>
          <a:stretch/>
        </p:blipFill>
        <p:spPr>
          <a:xfrm>
            <a:off x="357120" y="4500720"/>
            <a:ext cx="2374920" cy="1484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ttp://cdns2.freepik.com/darmowe-zdjecie/industrial-clipart-budowlane_424752.jpg"/>
          <p:cNvPicPr/>
          <p:nvPr/>
        </p:nvPicPr>
        <p:blipFill>
          <a:blip r:embed="rId3"/>
          <a:stretch/>
        </p:blipFill>
        <p:spPr>
          <a:xfrm>
            <a:off x="3643200" y="571680"/>
            <a:ext cx="1500480" cy="12855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212" name="pole tekstowe 4"/>
          <p:cNvSpPr/>
          <p:nvPr/>
        </p:nvSpPr>
        <p:spPr>
          <a:xfrm>
            <a:off x="5290200" y="1071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RZEŹ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Łącznik zakrzywiony 7"/>
          <p:cNvCxnSpPr/>
          <p:nvPr/>
        </p:nvCxnSpPr>
        <p:spPr>
          <a:xfrm>
            <a:off x="2700360" y="3860640"/>
            <a:ext cx="3944160" cy="783360"/>
          </a:xfrm>
          <a:prstGeom prst="curvedConnector5">
            <a:avLst>
              <a:gd name="adj1" fmla="val 49995"/>
              <a:gd name="adj2" fmla="val 49977"/>
              <a:gd name="adj3" fmla="val 49995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4" name="pole tekstowe 10"/>
          <p:cNvSpPr/>
          <p:nvPr/>
        </p:nvSpPr>
        <p:spPr>
          <a:xfrm>
            <a:off x="2509920" y="557208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ZAKŁAD PRZETWÓRCZY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ole tekstowe 11"/>
          <p:cNvSpPr/>
          <p:nvPr/>
        </p:nvSpPr>
        <p:spPr>
          <a:xfrm>
            <a:off x="6619320" y="350028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ZAKŁAD PRZETWÓRCZY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Łącznik prosty ze strzałką 13"/>
          <p:cNvCxnSpPr/>
          <p:nvPr/>
        </p:nvCxnSpPr>
        <p:spPr>
          <a:xfrm flipH="1">
            <a:off x="1571040" y="1714680"/>
            <a:ext cx="1929240" cy="2715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7" name="Łącznik prosty ze strzałką 23"/>
          <p:cNvCxnSpPr/>
          <p:nvPr/>
        </p:nvCxnSpPr>
        <p:spPr>
          <a:xfrm flipH="1">
            <a:off x="2714040" y="1785600"/>
            <a:ext cx="1215000" cy="2072520"/>
          </a:xfrm>
          <a:prstGeom prst="straightConnector1">
            <a:avLst/>
          </a:prstGeom>
          <a:ln w="38160">
            <a:solidFill>
              <a:srgbClr val="4a7ebb"/>
            </a:solidFill>
            <a:prstDash val="sysDot"/>
            <a:miter/>
            <a:headEnd len="med" type="arrow" w="med"/>
            <a:tailEnd len="med" type="arrow" w="med"/>
          </a:ln>
        </p:spPr>
      </p:cxnSp>
      <p:sp>
        <p:nvSpPr>
          <p:cNvPr id="218" name="Łącznik prosty 28"/>
          <p:cNvSpPr/>
          <p:nvPr/>
        </p:nvSpPr>
        <p:spPr>
          <a:xfrm>
            <a:off x="500040" y="500040"/>
            <a:ext cx="7643880" cy="5572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Łącznik prosty 31"/>
          <p:cNvSpPr/>
          <p:nvPr/>
        </p:nvSpPr>
        <p:spPr>
          <a:xfrm flipV="1">
            <a:off x="785880" y="500040"/>
            <a:ext cx="7286400" cy="5572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ytuł 1"/>
          <p:cNvSpPr/>
          <p:nvPr/>
        </p:nvSpPr>
        <p:spPr>
          <a:xfrm>
            <a:off x="468360" y="0"/>
            <a:ext cx="8190000" cy="28728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andel surowcem miedzy zakładami przetwórcz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4" descr=""/>
          <p:cNvPicPr/>
          <p:nvPr/>
        </p:nvPicPr>
        <p:blipFill>
          <a:blip r:embed="rId4"/>
          <a:stretch/>
        </p:blipFill>
        <p:spPr>
          <a:xfrm>
            <a:off x="2700360" y="2205000"/>
            <a:ext cx="1008000" cy="1297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0"/>
          <p:cNvSpPr/>
          <p:nvPr/>
        </p:nvSpPr>
        <p:spPr>
          <a:xfrm>
            <a:off x="2771640" y="2421000"/>
            <a:ext cx="80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Doku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Handlow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do ZP 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Łącznik łamany 20"/>
          <p:cNvCxnSpPr/>
          <p:nvPr/>
        </p:nvCxnSpPr>
        <p:spPr>
          <a:xfrm>
            <a:off x="3203640" y="3500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224" name="Picture 34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1009440" cy="12970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0"/>
          <p:cNvSpPr/>
          <p:nvPr/>
        </p:nvSpPr>
        <p:spPr>
          <a:xfrm>
            <a:off x="4140360" y="4221000"/>
            <a:ext cx="80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Doku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Handlow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do ZP 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6"/>
          <a:stretch/>
        </p:blipFill>
        <p:spPr>
          <a:xfrm rot="18266400">
            <a:off x="1633320" y="2638080"/>
            <a:ext cx="723960" cy="745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7"/>
          <a:stretch/>
        </p:blipFill>
        <p:spPr>
          <a:xfrm rot="2129400">
            <a:off x="3136680" y="3209400"/>
            <a:ext cx="723600" cy="7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Handel surowcem miedzy zakładami przetwórczy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Wykorzystanie zatwierdzonego zakładu przetwórczego niezgodnie z jego przeznaczeniem – definicja z R 1069/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Zaburzone śledzenie przesyłek UPPZ z rzeź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Trudności w identyfikacji produktu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Trudności z bilansowaniu surowca przyjętego do zakładów przetwórczych, w stosunku do wysyłanego produktu gotowego, ponieważ ten sam surowiec widniałby w dokumentacji dwóch zakładów przetwórczy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rostokąt 3"/>
          <p:cNvSpPr/>
          <p:nvPr/>
        </p:nvSpPr>
        <p:spPr>
          <a:xfrm>
            <a:off x="755640" y="2276640"/>
            <a:ext cx="7777080" cy="39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Wykonywanie zatem przez zakład przetwórczy innych czynności, takich jak przewożenie UPPZ między zakładami sektora utylizacyjnego oraz sprzedaż tych surowców, nie powinno być wykonywane w ramach tego zatwierdze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rostokąt 1"/>
          <p:cNvSpPr/>
          <p:nvPr/>
        </p:nvSpPr>
        <p:spPr>
          <a:xfrm>
            <a:off x="395280" y="260280"/>
            <a:ext cx="8497800" cy="337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DOPUSZCZALNE W PRZYPADKU WYSTĄPIENIA AWARII W ZAKŁADZIE  PRZETWÓRCZ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rostokąt 2"/>
          <p:cNvSpPr/>
          <p:nvPr/>
        </p:nvSpPr>
        <p:spPr>
          <a:xfrm>
            <a:off x="468360" y="1125360"/>
            <a:ext cx="8496360" cy="3111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 sytuacjach szczególnych dopuszcza się możliwość prowadzenia obrotu surowcami. Jedną z takich okoliczności jest awaria linii technologicznej, która uniemożliwia dokonanie obróbki termicznej UPPZ, w warunkach zapobiegających powstaniu zagrożenia dla zdrowia ludzi i zwierzą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 takim przypadku możliwym jest przewiezienie surowca do innego zakładu przetwórczego, właściwej kategorii. Podmiot powinien zaopatrzyć przesyłkę w dokument handlowy. Ponadto powinny zostać zachowane procedury dotyczące identyfikacji oraz warunków transportu upp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/w czynności muszą odbywać się za wiedzą i zgodą właściwego terytorialnie powiatowego lekarza weteryna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http://cdns2.freepik.com/darmowe-zdjecie/industrial-clipart-budowlane_424752.jpg"/>
          <p:cNvPicPr/>
          <p:nvPr/>
        </p:nvPicPr>
        <p:blipFill>
          <a:blip r:embed="rId1"/>
          <a:stretch/>
        </p:blipFill>
        <p:spPr>
          <a:xfrm>
            <a:off x="2556000" y="4797360"/>
            <a:ext cx="720720" cy="5763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34" name="Picture 4" descr="IN00537_[1]"/>
          <p:cNvPicPr/>
          <p:nvPr/>
        </p:nvPicPr>
        <p:blipFill>
          <a:blip r:embed="rId2"/>
          <a:stretch/>
        </p:blipFill>
        <p:spPr>
          <a:xfrm>
            <a:off x="971640" y="5661000"/>
            <a:ext cx="1119240" cy="61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IN00537_[1]"/>
          <p:cNvPicPr/>
          <p:nvPr/>
        </p:nvPicPr>
        <p:blipFill>
          <a:blip r:embed="rId3"/>
          <a:stretch/>
        </p:blipFill>
        <p:spPr>
          <a:xfrm>
            <a:off x="4572000" y="5732640"/>
            <a:ext cx="1119240" cy="61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4"/>
          <a:stretch/>
        </p:blipFill>
        <p:spPr>
          <a:xfrm rot="19035000">
            <a:off x="1724040" y="5331960"/>
            <a:ext cx="401760" cy="289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5"/>
          <a:stretch/>
        </p:blipFill>
        <p:spPr>
          <a:xfrm rot="1729200">
            <a:off x="3897000" y="5308560"/>
            <a:ext cx="401760" cy="28908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8"/>
          <p:cNvSpPr/>
          <p:nvPr/>
        </p:nvSpPr>
        <p:spPr>
          <a:xfrm>
            <a:off x="2124000" y="5589720"/>
            <a:ext cx="1943280" cy="520200"/>
          </a:xfrm>
          <a:prstGeom prst="rect">
            <a:avLst/>
          </a:prstGeom>
          <a:noFill/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C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WIADOMIENIE PL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ole tekstowe 19"/>
          <p:cNvSpPr/>
          <p:nvPr/>
        </p:nvSpPr>
        <p:spPr>
          <a:xfrm>
            <a:off x="895680" y="5661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  <a:ea typeface="Arial"/>
              </a:rPr>
              <a:t>!AWA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Łącznik prosty ze strzałką 26"/>
          <p:cNvCxnSpPr/>
          <p:nvPr/>
        </p:nvCxnSpPr>
        <p:spPr>
          <a:xfrm flipV="1">
            <a:off x="1979280" y="5373000"/>
            <a:ext cx="577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1" name="Łącznik prosty ze strzałką 29"/>
          <p:cNvCxnSpPr/>
          <p:nvPr/>
        </p:nvCxnSpPr>
        <p:spPr>
          <a:xfrm>
            <a:off x="3419640" y="5373720"/>
            <a:ext cx="1072080" cy="567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2" name="Łącznik prosty ze strzałką 32"/>
          <p:cNvCxnSpPr/>
          <p:nvPr/>
        </p:nvCxnSpPr>
        <p:spPr>
          <a:xfrm>
            <a:off x="2195280" y="609264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93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AKTUALNA SYTUACJA W ZAKRESIE WYKRYWANIA NIELEGALNYCH PRZYPADKÓW STOSOWANIA MĄCZEK MIĘSNO – KOSTNYCH W ŻYWIENIU ZWIERZAT GOSPODARSK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2018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pl-PL" sz="1900" spc="-1" strike="noStrike">
                <a:solidFill>
                  <a:srgbClr val="000000"/>
                </a:solidFill>
                <a:latin typeface="Century Gothic"/>
              </a:rPr>
              <a:t>W roku 2015 na terenie Polski </a:t>
            </a:r>
            <a:r>
              <a:rPr b="1" lang="pl-PL" sz="1900" spc="-1" strike="noStrike" u="sng">
                <a:solidFill>
                  <a:srgbClr val="000000"/>
                </a:solidFill>
                <a:uFillTx/>
                <a:latin typeface="Century Gothic"/>
              </a:rPr>
              <a:t>stwierdzono 4 przypadki</a:t>
            </a:r>
            <a:r>
              <a:rPr b="0" lang="pl-PL" sz="1900" spc="-1" strike="noStrike">
                <a:solidFill>
                  <a:srgbClr val="000000"/>
                </a:solidFill>
                <a:latin typeface="Century Gothic"/>
              </a:rPr>
              <a:t> wykrycia w paszy niedozwolonych białek pochodzenia zwierzęceg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900" spc="-1" strike="noStrike">
                <a:solidFill>
                  <a:srgbClr val="000000"/>
                </a:solidFill>
                <a:latin typeface="Century Gothic"/>
              </a:rPr>
              <a:t>Przypadki stwierdzenia żywienia zwierząt mączkami mięsno – kostnymi  miały miejsce na terenie następujących województw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kujawsko – pomorskie(trzoda chlew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podkarpackie(trzoda chlew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armińsko – mazurskie (trzoda chlewna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zachodniopomorskie (trzoda chlew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7030a0"/>
                </a:solidFill>
                <a:latin typeface="Century Gothic"/>
                <a:ea typeface="Arial"/>
              </a:rPr>
              <a:t>Obecnie możliwy jest eksport PAP z Polski d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ietnam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anglades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ajlandii (audy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Ukra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Rosji (audy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ołdaw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zerbejdż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irgistanu oraz Uzbekistanu (pozwolenia indywidual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urcji (z przeznaczeniem do produkcji pet fo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 roku 2014 wyeksportowano z PL do krajów trzecich</a:t>
            </a:r>
            <a:r>
              <a:rPr b="1" lang="pl-PL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 ponad 61 tys. ton P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administracyjny16"/>
          <p:cNvPicPr/>
          <p:nvPr/>
        </p:nvPicPr>
        <p:blipFill>
          <a:blip r:embed="rId1"/>
          <a:stretch/>
        </p:blipFill>
        <p:spPr>
          <a:xfrm>
            <a:off x="468360" y="260280"/>
            <a:ext cx="8316720" cy="5832720"/>
          </a:xfrm>
          <a:prstGeom prst="rect">
            <a:avLst/>
          </a:prstGeom>
          <a:ln w="0">
            <a:noFill/>
          </a:ln>
        </p:spPr>
      </p:pic>
      <p:sp>
        <p:nvSpPr>
          <p:cNvPr id="250" name="Line 40"/>
          <p:cNvSpPr/>
          <p:nvPr/>
        </p:nvSpPr>
        <p:spPr>
          <a:xfrm>
            <a:off x="7093080" y="5445000"/>
            <a:ext cx="10062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2"/>
          <p:cNvSpPr/>
          <p:nvPr/>
        </p:nvSpPr>
        <p:spPr>
          <a:xfrm>
            <a:off x="6875640" y="5229360"/>
            <a:ext cx="447480" cy="457200"/>
          </a:xfrm>
          <a:custGeom>
            <a:avLst/>
            <a:gdLst/>
            <a:ahLst/>
            <a:rect l="l" t="t" r="r" b="b"/>
            <a:pathLst>
              <a:path w="447675" h="457200">
                <a:moveTo>
                  <a:pt x="0" y="174634"/>
                </a:moveTo>
                <a:lnTo>
                  <a:pt x="170998" y="174636"/>
                </a:lnTo>
                <a:lnTo>
                  <a:pt x="223838" y="0"/>
                </a:lnTo>
                <a:lnTo>
                  <a:pt x="276677" y="174636"/>
                </a:lnTo>
                <a:lnTo>
                  <a:pt x="447675" y="174634"/>
                </a:lnTo>
                <a:lnTo>
                  <a:pt x="309334" y="282564"/>
                </a:lnTo>
                <a:lnTo>
                  <a:pt x="362176" y="457199"/>
                </a:lnTo>
                <a:lnTo>
                  <a:pt x="223838" y="349267"/>
                </a:lnTo>
                <a:lnTo>
                  <a:pt x="85499" y="457199"/>
                </a:lnTo>
                <a:lnTo>
                  <a:pt x="138341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7596360" y="5661000"/>
            <a:ext cx="1331640" cy="71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Les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8"/>
          <p:cNvSpPr/>
          <p:nvPr/>
        </p:nvSpPr>
        <p:spPr>
          <a:xfrm>
            <a:off x="3276720" y="1484280"/>
            <a:ext cx="482400" cy="457200"/>
          </a:xfrm>
          <a:custGeom>
            <a:avLst/>
            <a:gdLst/>
            <a:ahLst/>
            <a:rect l="l" t="t" r="r" b="b"/>
            <a:pathLst>
              <a:path w="482600" h="457200">
                <a:moveTo>
                  <a:pt x="1" y="174634"/>
                </a:moveTo>
                <a:lnTo>
                  <a:pt x="184338" y="174636"/>
                </a:lnTo>
                <a:lnTo>
                  <a:pt x="241300" y="0"/>
                </a:lnTo>
                <a:lnTo>
                  <a:pt x="298262" y="174636"/>
                </a:lnTo>
                <a:lnTo>
                  <a:pt x="482599" y="174634"/>
                </a:lnTo>
                <a:lnTo>
                  <a:pt x="333467" y="282564"/>
                </a:lnTo>
                <a:lnTo>
                  <a:pt x="390431" y="457199"/>
                </a:lnTo>
                <a:lnTo>
                  <a:pt x="241300" y="349267"/>
                </a:lnTo>
                <a:lnTo>
                  <a:pt x="92169" y="457199"/>
                </a:lnTo>
                <a:lnTo>
                  <a:pt x="149133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1"/>
          <p:cNvSpPr/>
          <p:nvPr/>
        </p:nvSpPr>
        <p:spPr>
          <a:xfrm flipH="1">
            <a:off x="1618920" y="1916280"/>
            <a:ext cx="187308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468360" y="5300640"/>
            <a:ext cx="1944720" cy="71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uch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6"/>
          <p:cNvSpPr/>
          <p:nvPr/>
        </p:nvSpPr>
        <p:spPr>
          <a:xfrm>
            <a:off x="395280" y="333360"/>
            <a:ext cx="1584360" cy="71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iałog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8"/>
          <p:cNvSpPr/>
          <p:nvPr/>
        </p:nvSpPr>
        <p:spPr>
          <a:xfrm>
            <a:off x="1692360" y="1052640"/>
            <a:ext cx="482400" cy="457200"/>
          </a:xfrm>
          <a:custGeom>
            <a:avLst/>
            <a:gdLst/>
            <a:ahLst/>
            <a:rect l="l" t="t" r="r" b="b"/>
            <a:pathLst>
              <a:path w="482600" h="457200">
                <a:moveTo>
                  <a:pt x="1" y="174634"/>
                </a:moveTo>
                <a:lnTo>
                  <a:pt x="184338" y="174636"/>
                </a:lnTo>
                <a:lnTo>
                  <a:pt x="241300" y="0"/>
                </a:lnTo>
                <a:lnTo>
                  <a:pt x="298262" y="174636"/>
                </a:lnTo>
                <a:lnTo>
                  <a:pt x="482599" y="174634"/>
                </a:lnTo>
                <a:lnTo>
                  <a:pt x="333467" y="282564"/>
                </a:lnTo>
                <a:lnTo>
                  <a:pt x="390431" y="457199"/>
                </a:lnTo>
                <a:lnTo>
                  <a:pt x="241300" y="349267"/>
                </a:lnTo>
                <a:lnTo>
                  <a:pt x="92169" y="457199"/>
                </a:lnTo>
                <a:lnTo>
                  <a:pt x="149133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1"/>
          <p:cNvSpPr/>
          <p:nvPr/>
        </p:nvSpPr>
        <p:spPr>
          <a:xfrm flipH="1" flipV="1">
            <a:off x="1186920" y="980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7020000" y="333360"/>
            <a:ext cx="1368360" cy="71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lec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6372360" y="9079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2"/>
          <p:cNvSpPr/>
          <p:nvPr/>
        </p:nvSpPr>
        <p:spPr>
          <a:xfrm>
            <a:off x="6084720" y="907920"/>
            <a:ext cx="446400" cy="457200"/>
          </a:xfrm>
          <a:custGeom>
            <a:avLst/>
            <a:gdLst/>
            <a:ahLst/>
            <a:rect l="l" t="t" r="r" b="b"/>
            <a:pathLst>
              <a:path w="446087" h="457200">
                <a:moveTo>
                  <a:pt x="0" y="174634"/>
                </a:moveTo>
                <a:lnTo>
                  <a:pt x="170391" y="174636"/>
                </a:lnTo>
                <a:lnTo>
                  <a:pt x="223044" y="0"/>
                </a:lnTo>
                <a:lnTo>
                  <a:pt x="275696" y="174636"/>
                </a:lnTo>
                <a:lnTo>
                  <a:pt x="446087" y="174634"/>
                </a:lnTo>
                <a:lnTo>
                  <a:pt x="308237" y="282564"/>
                </a:lnTo>
                <a:lnTo>
                  <a:pt x="360892" y="457199"/>
                </a:lnTo>
                <a:lnTo>
                  <a:pt x="223044" y="349267"/>
                </a:lnTo>
                <a:lnTo>
                  <a:pt x="85195" y="457199"/>
                </a:lnTo>
                <a:lnTo>
                  <a:pt x="137850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Wyniki monitoringu – wykrywanie PAP, sz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Symbol zastępczy wykresu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311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Stosunek procentowy liczby próbek niespełniających wymagań w stosunku do ogólnej liczby prób pobranych w zakresie PAP  (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Object 2" descr=""/>
          <p:cNvPicPr/>
          <p:nvPr/>
        </p:nvPicPr>
        <p:blipFill>
          <a:blip r:embed="rId1"/>
          <a:stretch/>
        </p:blipFill>
        <p:spPr>
          <a:xfrm>
            <a:off x="812880" y="1700280"/>
            <a:ext cx="8331120" cy="47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68360" y="1413000"/>
            <a:ext cx="8229600" cy="2952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e wszystkich czterech przypadkach potwierdzenia obecności niedozwolonych PAP w paszy wydana została decyzja o blokadzie st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Zgodnie z prawem paszowym, zwierzęta takie nie mogą trafić do łańcucha żywieniowego lud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390600" y="1908000"/>
            <a:ext cx="8508960" cy="3864240"/>
          </a:xfrm>
          <a:prstGeom prst="rect">
            <a:avLst/>
          </a:prstGeom>
          <a:ln w="0">
            <a:noFill/>
          </a:ln>
        </p:spPr>
      </p:pic>
      <p:sp>
        <p:nvSpPr>
          <p:cNvPr id="268" name="Tytuł 3"/>
          <p:cNvSpPr/>
          <p:nvPr/>
        </p:nvSpPr>
        <p:spPr>
          <a:xfrm>
            <a:off x="539640" y="765000"/>
            <a:ext cx="8229600" cy="1008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DECYZJE O BLOKADZIE STADA OD 2011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1" descr=""/>
          <p:cNvPicPr/>
          <p:nvPr/>
        </p:nvPicPr>
        <p:blipFill>
          <a:blip r:embed="rId2"/>
          <a:stretch/>
        </p:blipFill>
        <p:spPr>
          <a:xfrm>
            <a:off x="7740720" y="4149720"/>
            <a:ext cx="1152360" cy="574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"/>
          <p:cNvPicPr/>
          <p:nvPr/>
        </p:nvPicPr>
        <p:blipFill>
          <a:blip r:embed="rId3"/>
          <a:stretch/>
        </p:blipFill>
        <p:spPr>
          <a:xfrm>
            <a:off x="8244000" y="4797360"/>
            <a:ext cx="549000" cy="727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3" descr=""/>
          <p:cNvPicPr/>
          <p:nvPr/>
        </p:nvPicPr>
        <p:blipFill>
          <a:blip r:embed="rId4"/>
          <a:stretch/>
        </p:blipFill>
        <p:spPr>
          <a:xfrm rot="188400">
            <a:off x="7540560" y="3390840"/>
            <a:ext cx="1243080" cy="6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3" descr=""/>
          <p:cNvPicPr/>
          <p:nvPr/>
        </p:nvPicPr>
        <p:blipFill>
          <a:blip r:embed="rId1"/>
          <a:stretch/>
        </p:blipFill>
        <p:spPr>
          <a:xfrm>
            <a:off x="353880" y="1908000"/>
            <a:ext cx="8545680" cy="3864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Na dzień 15.12.2015 r. zablokowanych było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Uw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ymbol zastępczy zawartości 2"/>
          <p:cNvSpPr/>
          <p:nvPr/>
        </p:nvSpPr>
        <p:spPr>
          <a:xfrm>
            <a:off x="336600" y="2349360"/>
            <a:ext cx="8229600" cy="2664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i dokumentów handl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i krzyżowych (potwierdzenie dotarcia przesyłki zwierząt do rzeźni/zbiornicy/zakładu utylizacyjnego w tym samym lub innym powiecie/województw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stokąt 4"/>
          <p:cNvSpPr/>
          <p:nvPr/>
        </p:nvSpPr>
        <p:spPr>
          <a:xfrm>
            <a:off x="324000" y="1197000"/>
            <a:ext cx="8280360" cy="83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 przypadku zgłoszenia przekazania zwierząt do uboju i/lub utyl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zez właściciela zablokowanego Inspekcja Weterynaryjna dokonuje każdorazow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3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23608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0920" y="115920"/>
          <a:ext cx="8435880" cy="6815160"/>
        </p:xfrm>
        <a:graphic>
          <a:graphicData uri="http://schemas.openxmlformats.org/drawingml/2006/table">
            <a:tbl>
              <a:tblPr/>
              <a:tblGrid>
                <a:gridCol w="1930320"/>
                <a:gridCol w="1444680"/>
                <a:gridCol w="1687320"/>
                <a:gridCol w="1685880"/>
                <a:gridCol w="1687680"/>
              </a:tblGrid>
              <a:tr h="5763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IERZĘTA GOSPODARSKIE (INNE NIŻ ZWIERZĘTA FUTERKOW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ierzęta domowe oraz futerko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e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ja i produkty z jaj, mleko i produkty z mle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Żelatyna ze zwierząt innych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ałka hydrolizowane ze zwierząt innych niż przeżuwacze lub ze skór przeżuwac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ączka ryb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lko w preparatach mlekozastępczych dla młodych przeżuwac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az kanibaliz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sforan dwu- oraz trójwapniowy pochodzenia zwierzęc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kty z krwi ze zwierząt innych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ączka z krwi zwierząt innych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P ze zwierząt innych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az kanibaliz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az kanibaliz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eece1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kwidacja wymogu podpisania umowy bilateralnej z państwem trzecim na wywóz P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Wysyłka może się odbywać z zakładu przetwórczego kat. 3 </a:t>
            </a:r>
            <a:r>
              <a:rPr b="0" lang="pl-PL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nie przetwarzającego surowca z przeżuwaczy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i pobierającego materiał wyłącznie z zatwierdzonych rzeźni, które </a:t>
            </a:r>
            <a:r>
              <a:rPr b="0" lang="pl-PL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nie zajmują się ubojem przeżuwaczy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ub zakładów zatwierdzonych zakładów rozbioru, które nie zajmują się oddzieleniem od kości lub rozbiorem mięsa przeżuwaczy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539640" y="692280"/>
            <a:ext cx="7772400" cy="792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Century Gothic"/>
                <a:ea typeface="Arial"/>
              </a:rPr>
              <a:t>Narodowe (unijne) listy zakładów sektora utylizacyjnego w poszczególnych krajach członkowskich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rostokąt 13"/>
          <p:cNvSpPr/>
          <p:nvPr/>
        </p:nvSpPr>
        <p:spPr>
          <a:xfrm>
            <a:off x="539640" y="1700280"/>
            <a:ext cx="777744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trona Internetowa – europejska strona głów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ttp://ec.europa.eu/food/food/biosafety/establishments/list_abp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543800" cy="3343320"/>
          </a:xfrm>
          <a:prstGeom prst="rect">
            <a:avLst/>
          </a:prstGeom>
          <a:ln w="0">
            <a:noFill/>
          </a:ln>
        </p:spPr>
      </p:pic>
      <p:sp>
        <p:nvSpPr>
          <p:cNvPr id="285" name="pole tekstowe 6"/>
          <p:cNvSpPr/>
          <p:nvPr/>
        </p:nvSpPr>
        <p:spPr>
          <a:xfrm>
            <a:off x="6805440" y="501336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ww.wetgiw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załka w prawo 7"/>
          <p:cNvSpPr/>
          <p:nvPr/>
        </p:nvSpPr>
        <p:spPr>
          <a:xfrm>
            <a:off x="6156360" y="5157720"/>
            <a:ext cx="503280" cy="1429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rostokąt 2"/>
          <p:cNvSpPr/>
          <p:nvPr/>
        </p:nvSpPr>
        <p:spPr>
          <a:xfrm>
            <a:off x="108000" y="438120"/>
            <a:ext cx="892800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Elektroniczny rejestr podmiotów sektora utylizacyjnego zatwierdzonych/zarejestrowanych zgodnie z Rozporządzeniem 1069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C:\Users\krzysztof.bednarczyk\Desktop\Przechwytywanie.JPG"/>
          <p:cNvPicPr/>
          <p:nvPr/>
        </p:nvPicPr>
        <p:blipFill>
          <a:blip r:embed="rId1"/>
          <a:stretch/>
        </p:blipFill>
        <p:spPr>
          <a:xfrm>
            <a:off x="108000" y="2060640"/>
            <a:ext cx="8928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TR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Od 2012 roku możliwość używania w handlu wewnątrzwspólnotowym do powiadomień w systemie TRACES o przesyłkach UPPZ – aplikacji DOCO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Przekazanie uprawnień podmiotom gospodarczym do wystawiania DOC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TR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Od 2012 roku możliwość używania w handlu wewnątrzwspólnotowym do powiadomień w systemie TRACES o przesyłkach UPPZ – aplikacji DOCO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Przekazanie uprawnień podmiotom gospodarczym do wystawiania DOC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TR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Przy wystawianiu TRACES należy zwracać szczególną uwagę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prawidłowości danych dotyczących miejsca pochodzenia i miejsca przeznacz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danych przewoź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dokument handlowy powinien być wystawiony w ciągu 24 godzin od wysył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okument TRACES jako 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4981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System TRACES a zgoda kompetentnych władz państwa członkowskiego na przywóz ubocznych produktów zwierzęcych oraz produktów pochodnych (art. 48 rozporządzenia (WE) nr 1069/200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0" y="1981080"/>
          <a:ext cx="9144000" cy="4927680"/>
        </p:xfrm>
        <a:graphic>
          <a:graphicData uri="http://schemas.openxmlformats.org/drawingml/2006/table">
            <a:tbl>
              <a:tblPr/>
              <a:tblGrid>
                <a:gridCol w="2843280"/>
                <a:gridCol w="3252600"/>
                <a:gridCol w="3048120"/>
              </a:tblGrid>
              <a:tr h="112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g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ompetent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władz kraj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zeznacz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R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t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t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t.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ączki mięsno-kost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tłuszcze kat.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ączki mięsno-kost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tłuszcze kat.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łuszcze kat.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ornik nieprzetworz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ornik przetworz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rostokąt 2" descr=""/>
          <p:cNvPicPr/>
          <p:nvPr/>
        </p:nvPicPr>
        <p:blipFill>
          <a:blip r:embed="rId1"/>
          <a:stretch/>
        </p:blipFill>
        <p:spPr>
          <a:xfrm>
            <a:off x="755640" y="3790800"/>
            <a:ext cx="7686720" cy="920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http://przedszkole13.eu/wp-content/uploads/2011/08/choinka-swiateczna.jpg.gif"/>
          <p:cNvPicPr/>
          <p:nvPr/>
        </p:nvPicPr>
        <p:blipFill>
          <a:blip r:embed="rId2"/>
          <a:stretch/>
        </p:blipFill>
        <p:spPr>
          <a:xfrm>
            <a:off x="3276720" y="620640"/>
            <a:ext cx="260028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Eksport może się odbywać z zakładu przetwórczego kat. 3, w którym przetwarza się materiał kat. 3 </a:t>
            </a:r>
            <a:r>
              <a:rPr b="0" lang="pl-PL" sz="2400" spc="-1" strike="noStrike" u="sng">
                <a:solidFill>
                  <a:srgbClr val="ff0000"/>
                </a:solidFill>
                <a:uFillTx/>
                <a:latin typeface="Century Gothic"/>
                <a:ea typeface="Arial"/>
              </a:rPr>
              <a:t>pozyskany z różnych gatunków zwierząt 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(w tym z przeżuwaczy), o ile uzyskał on </a:t>
            </a:r>
            <a:r>
              <a:rPr b="0" lang="pl-PL" sz="2400" spc="-1" strike="noStrike" u="sng">
                <a:solidFill>
                  <a:srgbClr val="c00000"/>
                </a:solidFill>
                <a:uFillTx/>
                <a:latin typeface="Century Gothic"/>
                <a:ea typeface="Arial"/>
              </a:rPr>
              <a:t>zezwolenie właściwego PL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Warunki zezwole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fizyczna PLW potwierdzająca wprowadzenie </a:t>
            </a:r>
            <a:r>
              <a:rPr b="0" lang="pl-PL" sz="2400" spc="-1" strike="noStrike">
                <a:solidFill>
                  <a:srgbClr val="c00000"/>
                </a:solidFill>
                <a:latin typeface="Century Gothic"/>
                <a:ea typeface="Arial"/>
              </a:rPr>
              <a:t>środków zapobiegawczych 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gwarantujących, że nie dojdzie do zanieczyszczenia krzyżowego materiału z przeżuwaczy i nie-przeżuwac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499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836280"/>
            <a:ext cx="781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Środki zapobiegawcze obejmują przynajmniej następujące wymog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produkcja PAP od przeżuwaczy musi odbywać się w zamkniętym systemie, który jest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fizycznie oddzielony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od systemu wykorzystywanego do produkcji PAP dla innych gatunków zwierzą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UPPZ od przeżuwaczy są przechowywane podczas składowania i przewozu w pomieszczeniach, które są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fizycznie oddzielone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od tych przeznaczonych dla UPPZ od zwierząt innych niż przeżuwacz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PAP od przeżuwaczy jest przechowywane podczas składowania i pakowania w pomieszczeniach, które są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fizycznie oddzielone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od tych przeznaczonych dla PP od zwierząt innych niż przeżuwacz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należy regularnie przeprowadzać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pobieranie i analizę próbek PAP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, w celu zweryfikowania nieobecności zanieczyszczenia krzyżowego PAP-em od przeżuwaczy, wykorzystując metody analizy dotyczące oznaczania składników pochodzenia zwierzęcego do celów kontroli pasz określone w załączniku VI do rozporządzenia (WE) nr 152/2009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zęstotliwość pobierania i analizowania próbek określa się na podstawie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oceny ryzyka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przeprowadzonej przez podmiot gospodarczy w ramach procedur opartych na HACC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wyniki takiego pobierania i analizowania próbek są przechowywane do udostępnienia właściwemu organowi przez okres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co najmniej pięciu lat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20:11:11Z</dcterms:created>
  <dc:creator>REPS-BEDNARCZYK Anna</dc:creator>
  <dc:description/>
  <dc:language>en-US</dc:language>
  <cp:lastModifiedBy>Michal Cierpialowski</cp:lastModifiedBy>
  <dcterms:modified xsi:type="dcterms:W3CDTF">2018-01-06T22:13:51Z</dcterms:modified>
  <cp:revision>169</cp:revision>
  <dc:subject/>
  <dc:title>PowerPoint Presentation</dc:title>
</cp:coreProperties>
</file>