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8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5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jpeg" ContentType="image/jpeg"/>
  <Override PartName="/ppt/media/image23.png" ContentType="image/png"/>
  <Override PartName="/ppt/media/image22.png" ContentType="image/png"/>
  <Override PartName="/ppt/media/image21.png" ContentType="image/png"/>
  <Override PartName="/ppt/media/image19.wmf" ContentType="image/x-wmf"/>
  <Override PartName="/ppt/media/image28.jpeg" ContentType="image/jpeg"/>
  <Override PartName="/ppt/media/image20.png" ContentType="image/png"/>
  <Override PartName="/ppt/media/image2.jpeg" ContentType="image/jpeg"/>
  <Override PartName="/ppt/media/image36.jpeg" ContentType="image/jpeg"/>
  <Override PartName="/ppt/media/image18.png" ContentType="image/png"/>
  <Override PartName="/ppt/media/image17.png" ContentType="image/png"/>
  <Override PartName="/ppt/media/image32.jpeg" ContentType="image/jpeg"/>
  <Override PartName="/ppt/media/image16.wmf" ContentType="image/x-wmf"/>
  <Override PartName="/ppt/media/image29.png" ContentType="image/png"/>
  <Override PartName="/ppt/media/image14.wmf" ContentType="image/x-wmf"/>
  <Override PartName="/ppt/media/image24.png" ContentType="image/png"/>
  <Override PartName="/ppt/media/image1.png" ContentType="image/png"/>
  <Override PartName="/ppt/media/image15.png" ContentType="image/png"/>
  <Override PartName="/ppt/media/image3.jpeg" ContentType="image/jpeg"/>
  <Override PartName="/ppt/media/image26.jpeg" ContentType="image/jpeg"/>
  <Override PartName="/ppt/media/image38.png" ContentType="image/png"/>
  <Override PartName="/ppt/media/image41.wmf" ContentType="image/x-wmf"/>
  <Override PartName="/ppt/media/image39.png" ContentType="image/png"/>
  <Override PartName="/ppt/media/image42.wmf" ContentType="image/x-wmf"/>
  <Override PartName="/ppt/media/image43.png" ContentType="image/png"/>
  <Override PartName="/ppt/media/image44.png" ContentType="image/png"/>
  <Override PartName="/ppt/media/image45.png" ContentType="image/png"/>
  <Override PartName="/ppt/media/image46.jpeg" ContentType="image/jpeg"/>
  <Override PartName="/ppt/media/image48.png" ContentType="image/png"/>
  <Override PartName="/ppt/media/image33.wmf" ContentType="image/x-wmf"/>
  <Override PartName="/ppt/media/image8.wmf" ContentType="image/x-wmf"/>
  <Override PartName="/ppt/media/image13.png" ContentType="image/png"/>
  <Override PartName="/ppt/media/image40.wmf" ContentType="image/x-wmf"/>
  <Override PartName="/ppt/media/image37.png" ContentType="image/png"/>
  <Override PartName="/ppt/media/image49.png" ContentType="image/png"/>
  <Override PartName="/ppt/media/image9.wmf" ContentType="image/x-wmf"/>
  <Override PartName="/ppt/media/image47.png" ContentType="image/png"/>
  <Override PartName="/ppt/media/image35.jpeg" ContentType="image/jpeg"/>
  <Override PartName="/ppt/media/image31.wmf" ContentType="image/x-wmf"/>
  <Override PartName="/ppt/media/image6.wmf" ContentType="image/x-wmf"/>
  <Override PartName="/ppt/media/image10.wmf" ContentType="image/x-wmf"/>
  <Override PartName="/ppt/media/image25.jpeg" ContentType="image/jpeg"/>
  <Override PartName="/ppt/media/image12.wmf" ContentType="image/x-wmf"/>
  <Override PartName="/ppt/media/image4.png" ContentType="image/png"/>
  <Override PartName="/ppt/media/image34.png" ContentType="image/png"/>
  <Override PartName="/ppt/media/image7.wmf" ContentType="image/x-wmf"/>
  <Override PartName="/ppt/media/image30.jpeg" ContentType="image/jpeg"/>
  <Override PartName="/ppt/media/image11.wmf" ContentType="image/x-wmf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3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13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0FA90-2974-41E1-86BD-BECE774E69C9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AD624-37F2-4A37-9855-6A3693EC3854}" type="slidenum">
              <a:rPr b="0" lang="pl-PL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4CF55-5336-4090-8ED9-4A68E57DA807}" type="slidenum">
              <a:rPr b="0" lang="pl-PL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7240" y="4343400"/>
            <a:ext cx="5483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560" rIns="885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fld id="{4F0EB565-CDC9-4177-8E3A-152F8D042F0C}" type="slidenum">
              <a:rPr b="0" lang="pl-PL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25F80-E1FB-4211-BCF6-ABA5E47718A7}" type="slidenum">
              <a:rPr b="0" lang="pl-PL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79D42-EA41-4108-A3BB-85FF279F9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6584F-1189-46B8-98BB-AB29B8DF9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49F4D-A9BD-46E4-A7C8-E250EBEA3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08161-084D-426E-A11C-CF648E9F0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55BCC2-582D-4B34-9494-3E4CA0622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A76760-7686-4048-9172-24F40563D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5AFF4F-3179-440B-8175-7D7EE4909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F58278-78AD-42E3-B981-A6A70A234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CADA87-08A1-427C-989B-15BEB4C9A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6807C7-CF3B-4CFA-A315-6EB5177A0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8008C3-01B0-4A59-B9EE-7301102B9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635EF-6E16-42D6-A399-E9C8C7680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AF0E4F-7349-4672-9F42-B71AC8B4B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6FA7B7-B5F6-47E7-9328-F1C940C12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8EC407-6475-4C6F-A665-CAC7068CB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473C29-AF53-4F04-8A3D-070E82D64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30E1F5-A1E3-4092-BC24-A3C434D93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A1F8D-9F08-417B-BD23-FC8620DB7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CCCA8-3D9B-4F14-8096-26E353819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C6BC1-C4B9-4E55-9E3A-5035ECC10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13209-3604-4054-8D92-373E4DE07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AAE6B-EB26-4397-8CFD-41F3C7960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7C197-012B-4739-BCFF-6313D0AF3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B8110-5A78-40DA-A12B-85EF157E0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B7FDD-A704-4FDF-A50C-CC54617FE89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422CB-8608-408B-A437-BD25D82F9BE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dt" idx="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wmf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image" Target="../media/image31.wmf"/><Relationship Id="rId3" Type="http://schemas.openxmlformats.org/officeDocument/2006/relationships/image" Target="../media/image32.jpeg"/><Relationship Id="rId4" Type="http://schemas.openxmlformats.org/officeDocument/2006/relationships/image" Target="../media/image33.wmf"/><Relationship Id="rId5" Type="http://schemas.openxmlformats.org/officeDocument/2006/relationships/image" Target="../media/image33.wmf"/><Relationship Id="rId6" Type="http://schemas.openxmlformats.org/officeDocument/2006/relationships/image" Target="../media/image34.png"/><Relationship Id="rId7" Type="http://schemas.openxmlformats.org/officeDocument/2006/relationships/image" Target="../media/image34.png"/><Relationship Id="rId8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1.wmf"/><Relationship Id="rId3" Type="http://schemas.openxmlformats.org/officeDocument/2006/relationships/image" Target="../media/image31.wmf"/><Relationship Id="rId4" Type="http://schemas.openxmlformats.org/officeDocument/2006/relationships/image" Target="../media/image34.png"/><Relationship Id="rId5" Type="http://schemas.openxmlformats.org/officeDocument/2006/relationships/image" Target="../media/image34.png"/><Relationship Id="rId6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wmf"/><Relationship Id="rId3" Type="http://schemas.openxmlformats.org/officeDocument/2006/relationships/image" Target="../media/image41.wmf"/><Relationship Id="rId4" Type="http://schemas.openxmlformats.org/officeDocument/2006/relationships/image" Target="../media/image42.wmf"/><Relationship Id="rId5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Box 1"/>
          <p:cNvSpPr/>
          <p:nvPr/>
        </p:nvSpPr>
        <p:spPr>
          <a:xfrm>
            <a:off x="468360" y="1916280"/>
            <a:ext cx="8280360" cy="213552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Century Gothic"/>
                <a:ea typeface="Arial"/>
              </a:rPr>
              <a:t>UPPZ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Century Gothic"/>
                <a:ea typeface="Arial"/>
              </a:rPr>
              <a:t>Uboczne Produkty Pochodzenia Zwierzęceg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0000"/>
                </a:solidFill>
                <a:latin typeface="Century Gothic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00000" y="333360"/>
            <a:ext cx="7499520" cy="76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entury Gothic"/>
                <a:ea typeface="Arial"/>
              </a:rPr>
              <a:t>Wytyczne dla PL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39640" y="691920"/>
            <a:ext cx="7818480" cy="20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1000"/>
          </a:bodyPr>
          <a:p>
            <a:pPr marL="174960" indent="-17496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74960" indent="-17496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4960" indent="-17496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4960" indent="-17496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23bb1e"/>
                </a:solidFill>
                <a:latin typeface="Century Gothic"/>
                <a:ea typeface="Arial"/>
              </a:rPr>
              <a:t>Stosowne wytyczne dotyczące nadawania uprawnień umożliwiających export PAP przekazane zostaną PLW w styczniu 201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4960" indent="-17496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4960" indent="-17496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23bb1e"/>
                </a:solidFill>
                <a:latin typeface="Century Gothic"/>
                <a:ea typeface="Arial"/>
              </a:rPr>
              <a:t>Na ich podstawie PLW dokonają kontroli zainteresowanych zakładów, które po spełnieniu wymogów otrzymają stosowne pozwolenia uprawniające je do eksportu PA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 u="sng">
                <a:solidFill>
                  <a:srgbClr val="000000"/>
                </a:solidFill>
                <a:uFillTx/>
                <a:latin typeface="Century Gothic"/>
                <a:ea typeface="Arial"/>
              </a:rPr>
              <a:t>Ustalenia z nieformalnego spotkania roboczego z KE w Antwerpii (8-11.12.2015)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611280" y="1412640"/>
            <a:ext cx="78184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entury Gothic"/>
                <a:ea typeface="Arial"/>
              </a:rPr>
              <a:t>Planowana zmiana definicji petfoo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entury Gothic"/>
                <a:ea typeface="Arial"/>
              </a:rPr>
              <a:t>Wprowadzenie definicji „podmiotu aranżującego transport” – rejestracj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entury Gothic"/>
                <a:ea typeface="Arial"/>
              </a:rPr>
              <a:t>Zaimportowanie rejestrów podmiotów narodowych sektora utylizacyjnego do systemu TRA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entury Gothic"/>
                <a:ea typeface="Arial"/>
              </a:rPr>
              <a:t>Wcześniejsza zgodna kompetentnej władzy kraju docelowego w UE na przywóz PA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entury Gothic"/>
                <a:ea typeface="Arial"/>
              </a:rPr>
              <a:t>Wzmocnienie współpracy ze Służbą Celn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entury Gothic"/>
                <a:ea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Box 2"/>
          <p:cNvSpPr/>
          <p:nvPr/>
        </p:nvSpPr>
        <p:spPr>
          <a:xfrm>
            <a:off x="324000" y="260280"/>
            <a:ext cx="8424720" cy="642600"/>
          </a:xfrm>
          <a:prstGeom prst="rect">
            <a:avLst/>
          </a:prstGeom>
          <a:solidFill>
            <a:srgbClr val="ff0000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Century Gothic"/>
                <a:ea typeface="Arial"/>
              </a:rPr>
              <a:t>Uwag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ymbol zastępczy zawartości 2"/>
          <p:cNvSpPr/>
          <p:nvPr/>
        </p:nvSpPr>
        <p:spPr>
          <a:xfrm>
            <a:off x="395280" y="2205000"/>
            <a:ext cx="8229600" cy="431964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KAŻDA WYSYŁKA PAP JEST ODNOTOWYWANA PRZEZ SŁUŻBĘ CELNĄ A INFORMACJA PRZEKAZYWANA JEST DO PLW WŁAŚCIWEGO DLA MIEJSCA WYSYŁKI P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rostokąt 4"/>
          <p:cNvSpPr/>
          <p:nvPr/>
        </p:nvSpPr>
        <p:spPr>
          <a:xfrm>
            <a:off x="324000" y="1197000"/>
            <a:ext cx="8280360" cy="34056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INSPEKCJA WETERYNARYJNA ŚCIŚLE WSPÓŁPRACUJE ZE SŁUŻBĄ CELN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2" descr="http://transportowi.pl/wp-content/uploads/2012/11/celnik-386x386.png"/>
          <p:cNvPicPr/>
          <p:nvPr/>
        </p:nvPicPr>
        <p:blipFill>
          <a:blip r:embed="rId1"/>
          <a:stretch/>
        </p:blipFill>
        <p:spPr>
          <a:xfrm>
            <a:off x="5003640" y="3716280"/>
            <a:ext cx="2448000" cy="28400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4" descr="http://www.szyldy-reklamy.com/UserFiles/Image/wspolpraca(1).jpg"/>
          <p:cNvPicPr/>
          <p:nvPr/>
        </p:nvPicPr>
        <p:blipFill>
          <a:blip r:embed="rId2"/>
          <a:stretch/>
        </p:blipFill>
        <p:spPr>
          <a:xfrm>
            <a:off x="2700360" y="4221000"/>
            <a:ext cx="1942920" cy="19432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http://eltur.com.pl/wp-content/uploads/clipart9.jpg"/>
          <p:cNvPicPr/>
          <p:nvPr/>
        </p:nvPicPr>
        <p:blipFill>
          <a:blip r:embed="rId3"/>
          <a:stretch/>
        </p:blipFill>
        <p:spPr>
          <a:xfrm>
            <a:off x="826920" y="3860640"/>
            <a:ext cx="1800360" cy="241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Box 1"/>
          <p:cNvSpPr/>
          <p:nvPr/>
        </p:nvSpPr>
        <p:spPr>
          <a:xfrm>
            <a:off x="324000" y="260280"/>
            <a:ext cx="8424720" cy="64260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Century Gothic"/>
                <a:ea typeface="Arial"/>
              </a:rPr>
              <a:t>Tema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2"/>
          <p:cNvSpPr/>
          <p:nvPr/>
        </p:nvSpPr>
        <p:spPr>
          <a:xfrm>
            <a:off x="324000" y="1125360"/>
            <a:ext cx="8332560" cy="522936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80000"/>
              </a:lnSpc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d9d9d9"/>
                </a:solidFill>
                <a:latin typeface="Century Gothic"/>
                <a:ea typeface="Arial"/>
              </a:rPr>
              <a:t>Nowe zasady eksportu PAP do krajów trzeci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Urzędowe badania laboratoryjne produktów z krw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d9d9d9"/>
                </a:solidFill>
                <a:latin typeface="Century Gothic"/>
                <a:ea typeface="Arial"/>
              </a:rPr>
              <a:t>Dane produkcyjne UPPZ i wykorzystanie P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d9d9d9"/>
                </a:solidFill>
                <a:latin typeface="Century Gothic"/>
                <a:ea typeface="Arial"/>
              </a:rPr>
              <a:t>Kontrole podmiotów sektora utylizacyjnego w 2015 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d9d9d9"/>
                </a:solidFill>
                <a:latin typeface="Century Gothic"/>
                <a:ea typeface="Arial"/>
              </a:rPr>
              <a:t>Zmiana częstotliwości oraz modelu kontroli – kontrola UPPZ w rzeźni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d9d9d9"/>
                </a:solidFill>
                <a:latin typeface="Century Gothic"/>
                <a:ea typeface="Arial"/>
              </a:rPr>
              <a:t>Dokumenty handlowe w transporcie UPPZ/PP - wzór D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d9d9d9"/>
                </a:solidFill>
                <a:latin typeface="Century Gothic"/>
                <a:ea typeface="Arial"/>
              </a:rPr>
              <a:t>     </a:t>
            </a:r>
            <a:r>
              <a:rPr b="0" lang="pl-PL" sz="1800" spc="-1" strike="noStrike">
                <a:solidFill>
                  <a:srgbClr val="d9d9d9"/>
                </a:solidFill>
                <a:latin typeface="Century Gothic"/>
                <a:ea typeface="Arial"/>
              </a:rPr>
              <a:t>oraz produkty spożywcze przekwalifikowane do utylizacji</a:t>
            </a:r>
            <a:br>
              <a:rPr sz="1800"/>
            </a:br>
            <a:r>
              <a:rPr b="0" lang="pl-PL" sz="1800" spc="-1" strike="noStrike">
                <a:solidFill>
                  <a:srgbClr val="d9d9d9"/>
                </a:solidFill>
                <a:latin typeface="Century Gothic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d9d9d9"/>
                </a:solidFill>
                <a:latin typeface="Century Gothic"/>
                <a:ea typeface="Arial"/>
              </a:rPr>
              <a:t>Handel UPPZ między zakładami przetwórczy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d9d9d9"/>
                </a:solidFill>
                <a:latin typeface="Century Gothic"/>
                <a:ea typeface="Arial"/>
              </a:rPr>
              <a:t>Aktualna sytuacja wykrywania nielegalnego stosowania mącz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d9d9d9"/>
                </a:solidFill>
                <a:latin typeface="Century Gothic"/>
                <a:ea typeface="Arial"/>
              </a:rPr>
              <a:t>Elektroniczny Rejestr Podmiotów Sektora Utylizacyjneg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d9d9d9"/>
                </a:solidFill>
                <a:latin typeface="Century Gothic"/>
                <a:ea typeface="Arial"/>
              </a:rPr>
              <a:t>TR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"/>
          <p:cNvPicPr/>
          <p:nvPr/>
        </p:nvPicPr>
        <p:blipFill>
          <a:blip r:embed="rId1"/>
          <a:stretch/>
        </p:blipFill>
        <p:spPr>
          <a:xfrm>
            <a:off x="539640" y="115920"/>
            <a:ext cx="8064720" cy="662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3" descr="C:\Users\krzysztof.bednarczyk\Desktop\Przechwytywanie.JPG"/>
          <p:cNvPicPr/>
          <p:nvPr/>
        </p:nvPicPr>
        <p:blipFill>
          <a:blip r:embed="rId1"/>
          <a:stretch/>
        </p:blipFill>
        <p:spPr>
          <a:xfrm>
            <a:off x="611280" y="549360"/>
            <a:ext cx="7993080" cy="540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Box 1"/>
          <p:cNvSpPr/>
          <p:nvPr/>
        </p:nvSpPr>
        <p:spPr>
          <a:xfrm>
            <a:off x="324000" y="260280"/>
            <a:ext cx="8424720" cy="64260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Century Gothic"/>
                <a:ea typeface="Arial"/>
              </a:rPr>
              <a:t>Tema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2"/>
          <p:cNvSpPr/>
          <p:nvPr/>
        </p:nvSpPr>
        <p:spPr>
          <a:xfrm>
            <a:off x="324000" y="1125360"/>
            <a:ext cx="8332560" cy="522936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80000"/>
              </a:lnSpc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d9d9d9"/>
                </a:solidFill>
                <a:latin typeface="Century Gothic"/>
                <a:ea typeface="Arial"/>
              </a:rPr>
              <a:t>Nowe zasady eksportu PAP do krajów trzeci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d9d9d9"/>
                </a:solidFill>
                <a:latin typeface="Century Gothic"/>
                <a:ea typeface="Arial"/>
              </a:rPr>
              <a:t>Urzędowe badania laboratoryjne produktów z krwi (ML, PC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Dane produkcyjne UPPZ i wykorzystanie P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d9d9d9"/>
                </a:solidFill>
                <a:latin typeface="Century Gothic"/>
                <a:ea typeface="Arial"/>
              </a:rPr>
              <a:t>Kontrole podmiotów sektora utylizacyjnego w 2015 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d9d9d9"/>
                </a:solidFill>
                <a:latin typeface="Century Gothic"/>
                <a:ea typeface="Arial"/>
              </a:rPr>
              <a:t>Zmiana częstotliwości oraz modelu kontroli – kontrola UPPZ w rzeźni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d9d9d9"/>
                </a:solidFill>
                <a:latin typeface="Century Gothic"/>
                <a:ea typeface="Arial"/>
              </a:rPr>
              <a:t>Dokumenty handlowe w transporcie UPPZ/PP - wzór D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d9d9d9"/>
                </a:solidFill>
                <a:latin typeface="Century Gothic"/>
                <a:ea typeface="Arial"/>
              </a:rPr>
              <a:t>     </a:t>
            </a:r>
            <a:r>
              <a:rPr b="0" lang="pl-PL" sz="1800" spc="-1" strike="noStrike">
                <a:solidFill>
                  <a:srgbClr val="d9d9d9"/>
                </a:solidFill>
                <a:latin typeface="Century Gothic"/>
                <a:ea typeface="Arial"/>
              </a:rPr>
              <a:t>oraz produkty spożywcze przekwalifikowane do utylizacji</a:t>
            </a:r>
            <a:br>
              <a:rPr sz="1800"/>
            </a:br>
            <a:r>
              <a:rPr b="0" lang="pl-PL" sz="1800" spc="-1" strike="noStrike">
                <a:solidFill>
                  <a:srgbClr val="d9d9d9"/>
                </a:solidFill>
                <a:latin typeface="Century Gothic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d9d9d9"/>
                </a:solidFill>
                <a:latin typeface="Century Gothic"/>
                <a:ea typeface="Arial"/>
              </a:rPr>
              <a:t>Handel UPPZ między zakładami przetwórczy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d9d9d9"/>
                </a:solidFill>
                <a:latin typeface="Century Gothic"/>
                <a:ea typeface="Arial"/>
              </a:rPr>
              <a:t>Aktualna sytuacja wykrywania nielegalnego stosowania mącz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d9d9d9"/>
                </a:solidFill>
                <a:latin typeface="Century Gothic"/>
                <a:ea typeface="Arial"/>
              </a:rPr>
              <a:t>Elektroniczny Rejestr Podmiotów Sektora Utylizacyjneg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d9d9d9"/>
                </a:solidFill>
                <a:latin typeface="Century Gothic"/>
                <a:ea typeface="Arial"/>
              </a:rPr>
              <a:t>TR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Box 1"/>
          <p:cNvSpPr/>
          <p:nvPr/>
        </p:nvSpPr>
        <p:spPr>
          <a:xfrm>
            <a:off x="324000" y="260280"/>
            <a:ext cx="8424720" cy="64260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Century Gothic"/>
                <a:ea typeface="Arial"/>
              </a:rPr>
              <a:t>Zakłady przetwórcze kat.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3" descr=""/>
          <p:cNvPicPr/>
          <p:nvPr/>
        </p:nvPicPr>
        <p:blipFill>
          <a:blip r:embed="rId1"/>
          <a:stretch/>
        </p:blipFill>
        <p:spPr>
          <a:xfrm>
            <a:off x="122400" y="2276640"/>
            <a:ext cx="8893080" cy="1849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Box 1"/>
          <p:cNvSpPr/>
          <p:nvPr/>
        </p:nvSpPr>
        <p:spPr>
          <a:xfrm>
            <a:off x="324000" y="260280"/>
            <a:ext cx="8424720" cy="64260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Century Gothic"/>
                <a:ea typeface="Arial"/>
              </a:rPr>
              <a:t>Zakłady przetwórcze kat.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2" descr=""/>
          <p:cNvPicPr/>
          <p:nvPr/>
        </p:nvPicPr>
        <p:blipFill>
          <a:blip r:embed="rId1"/>
          <a:stretch/>
        </p:blipFill>
        <p:spPr>
          <a:xfrm>
            <a:off x="509760" y="2349360"/>
            <a:ext cx="8238960" cy="269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Box 1"/>
          <p:cNvSpPr/>
          <p:nvPr/>
        </p:nvSpPr>
        <p:spPr>
          <a:xfrm>
            <a:off x="324000" y="260280"/>
            <a:ext cx="8424720" cy="64260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Century Gothic"/>
                <a:ea typeface="Arial"/>
              </a:rPr>
              <a:t>Zakłady przetwórcze kat.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3" descr=""/>
          <p:cNvPicPr/>
          <p:nvPr/>
        </p:nvPicPr>
        <p:blipFill>
          <a:blip r:embed="rId1"/>
          <a:stretch/>
        </p:blipFill>
        <p:spPr>
          <a:xfrm>
            <a:off x="1979640" y="1127160"/>
            <a:ext cx="5245200" cy="518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Box 1"/>
          <p:cNvSpPr/>
          <p:nvPr/>
        </p:nvSpPr>
        <p:spPr>
          <a:xfrm>
            <a:off x="324000" y="260280"/>
            <a:ext cx="8424720" cy="64260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Century Gothic"/>
                <a:ea typeface="Arial"/>
              </a:rPr>
              <a:t>Tema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2"/>
          <p:cNvSpPr/>
          <p:nvPr/>
        </p:nvSpPr>
        <p:spPr>
          <a:xfrm>
            <a:off x="324000" y="1125360"/>
            <a:ext cx="8332560" cy="522936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Nowe zasady eksportu PAP do krajów trzeci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Urzędowe badania laboratoryjne produktów z krwi (PC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Dane produkcyjne UPPZ i wykorzystanie P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Kontrole podmiotów sektora utylizacyjnego w 2015 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Zmiana częstotliwości oraz modelu kontroli – kontrola UPPZ w rzeźni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Dokumenty handlowe w transporcie UPPZ/PP - wzór D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     </a:t>
            </a:r>
            <a:r>
              <a:rPr b="0" lang="pl-PL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oraz produkty spożywcze przekwalifikowane do utylizacji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Handel UPPZ między zakładami przetwórczy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Aktualna sytuacja wykrywania nielegalnego stosowania mącz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Elektroniczny Rejestr Podmiotów Sektora Utylizacyjneg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TR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Box 1"/>
          <p:cNvSpPr/>
          <p:nvPr/>
        </p:nvSpPr>
        <p:spPr>
          <a:xfrm>
            <a:off x="324000" y="260280"/>
            <a:ext cx="8424720" cy="64260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Century Gothic"/>
                <a:ea typeface="Arial"/>
              </a:rPr>
              <a:t>Zakłady przetwórcze kat.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2260440" y="1989000"/>
            <a:ext cx="4550040" cy="15051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4" descr=""/>
          <p:cNvPicPr/>
          <p:nvPr/>
        </p:nvPicPr>
        <p:blipFill>
          <a:blip r:embed="rId2"/>
          <a:stretch/>
        </p:blipFill>
        <p:spPr>
          <a:xfrm>
            <a:off x="79200" y="3860640"/>
            <a:ext cx="8913960" cy="1217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Box 1"/>
          <p:cNvSpPr/>
          <p:nvPr/>
        </p:nvSpPr>
        <p:spPr>
          <a:xfrm>
            <a:off x="324000" y="260280"/>
            <a:ext cx="8424720" cy="64260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Century Gothic"/>
                <a:ea typeface="Arial"/>
              </a:rPr>
              <a:t>Zakłady przetwórcze kat.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2" descr=""/>
          <p:cNvPicPr/>
          <p:nvPr/>
        </p:nvPicPr>
        <p:blipFill>
          <a:blip r:embed="rId1"/>
          <a:stretch/>
        </p:blipFill>
        <p:spPr>
          <a:xfrm>
            <a:off x="2195640" y="1052640"/>
            <a:ext cx="4244760" cy="5682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Box 1"/>
          <p:cNvSpPr/>
          <p:nvPr/>
        </p:nvSpPr>
        <p:spPr>
          <a:xfrm>
            <a:off x="324000" y="260280"/>
            <a:ext cx="8424720" cy="119124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Century Gothic"/>
                <a:ea typeface="Arial"/>
              </a:rPr>
              <a:t>Surowiec przyjęty do zakładów przetwórczych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2" descr=""/>
          <p:cNvPicPr/>
          <p:nvPr/>
        </p:nvPicPr>
        <p:blipFill>
          <a:blip r:embed="rId1"/>
          <a:stretch/>
        </p:blipFill>
        <p:spPr>
          <a:xfrm>
            <a:off x="662040" y="2060640"/>
            <a:ext cx="774864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Box 1"/>
          <p:cNvSpPr/>
          <p:nvPr/>
        </p:nvSpPr>
        <p:spPr>
          <a:xfrm>
            <a:off x="324000" y="260280"/>
            <a:ext cx="8424720" cy="82548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entury Gothic"/>
                <a:ea typeface="Arial"/>
              </a:rPr>
              <a:t>Wykorzystanie surowca do żywienia mięsożernych zwierząt futerkowych (MFZ) w 2014 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ymbol zastępczy zawartości 2"/>
          <p:cNvSpPr/>
          <p:nvPr/>
        </p:nvSpPr>
        <p:spPr>
          <a:xfrm>
            <a:off x="28728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entury Gothic"/>
                <a:ea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ole tekstowe 5"/>
          <p:cNvSpPr/>
          <p:nvPr/>
        </p:nvSpPr>
        <p:spPr>
          <a:xfrm>
            <a:off x="1270800" y="4519440"/>
            <a:ext cx="2219760" cy="1008720"/>
          </a:xfrm>
          <a:prstGeom prst="rect">
            <a:avLst/>
          </a:prstGeom>
          <a:solidFill>
            <a:srgbClr val="c6d9f1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entury Gothic"/>
              </a:rPr>
              <a:t>BEZPOŚREDNI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entury Gothic"/>
              </a:rPr>
              <a:t>N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entury Gothic"/>
              </a:rPr>
              <a:t>FERMĘ MZ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ole tekstowe 6"/>
          <p:cNvSpPr/>
          <p:nvPr/>
        </p:nvSpPr>
        <p:spPr>
          <a:xfrm>
            <a:off x="4327560" y="4519440"/>
            <a:ext cx="4032360" cy="1313640"/>
          </a:xfrm>
          <a:prstGeom prst="rect">
            <a:avLst/>
          </a:prstGeom>
          <a:solidFill>
            <a:srgbClr val="c6d9f1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entury Gothic"/>
              </a:rPr>
              <a:t>DO PUNKT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entury Gothic"/>
              </a:rPr>
              <a:t>GROMADZEN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000" spc="-1" strike="noStrike">
                <a:solidFill>
                  <a:srgbClr val="000000"/>
                </a:solidFill>
                <a:latin typeface="Century Gothic"/>
              </a:rPr>
              <a:t>(kuchnia – produkcja karm dla MF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2"/>
          <p:cNvSpPr/>
          <p:nvPr/>
        </p:nvSpPr>
        <p:spPr>
          <a:xfrm>
            <a:off x="1390680" y="1623960"/>
            <a:ext cx="5652000" cy="52056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entury Gothic"/>
                <a:ea typeface="Arial"/>
              </a:rPr>
              <a:t>SUROWIEC UPPZ (</a:t>
            </a:r>
            <a:r>
              <a:rPr b="1" lang="pl-PL" sz="2800" spc="-1" strike="noStrike">
                <a:solidFill>
                  <a:srgbClr val="00b050"/>
                </a:solidFill>
                <a:latin typeface="Century Gothic"/>
                <a:ea typeface="Arial"/>
              </a:rPr>
              <a:t>KAT. 3</a:t>
            </a:r>
            <a:r>
              <a:rPr b="0" lang="pl-PL" sz="2800" spc="-1" strike="noStrike">
                <a:solidFill>
                  <a:srgbClr val="000000"/>
                </a:solidFill>
                <a:latin typeface="Century Gothic"/>
                <a:ea typeface="Arial"/>
              </a:rPr>
              <a:t>, </a:t>
            </a:r>
            <a:r>
              <a:rPr b="1" lang="pl-PL" sz="2800" spc="-1" strike="noStrike">
                <a:solidFill>
                  <a:srgbClr val="ffff00"/>
                </a:solidFill>
                <a:latin typeface="Century Gothic"/>
                <a:ea typeface="Arial"/>
              </a:rPr>
              <a:t>KAT. 2</a:t>
            </a:r>
            <a:r>
              <a:rPr b="0" lang="pl-PL" sz="2800" spc="-1" strike="noStrike">
                <a:solidFill>
                  <a:srgbClr val="000000"/>
                </a:solidFill>
                <a:latin typeface="Century Gothic"/>
                <a:ea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Down Arrow 8"/>
          <p:cNvSpPr/>
          <p:nvPr/>
        </p:nvSpPr>
        <p:spPr>
          <a:xfrm>
            <a:off x="1908000" y="2421000"/>
            <a:ext cx="1008360" cy="1944720"/>
          </a:xfrm>
          <a:prstGeom prst="downArrow">
            <a:avLst>
              <a:gd name="adj1" fmla="val 50000"/>
              <a:gd name="adj2" fmla="val 49983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Down Arrow 10"/>
          <p:cNvSpPr/>
          <p:nvPr/>
        </p:nvSpPr>
        <p:spPr>
          <a:xfrm>
            <a:off x="5796000" y="2421000"/>
            <a:ext cx="1008000" cy="1944720"/>
          </a:xfrm>
          <a:prstGeom prst="downArrow">
            <a:avLst>
              <a:gd name="adj1" fmla="val 50000"/>
              <a:gd name="adj2" fmla="val 5000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5" descr=""/>
          <p:cNvPicPr/>
          <p:nvPr/>
        </p:nvPicPr>
        <p:blipFill>
          <a:blip r:embed="rId1"/>
          <a:stretch/>
        </p:blipFill>
        <p:spPr>
          <a:xfrm>
            <a:off x="539640" y="2637000"/>
            <a:ext cx="4894200" cy="2931840"/>
          </a:xfrm>
          <a:prstGeom prst="rect">
            <a:avLst/>
          </a:prstGeom>
          <a:ln w="0">
            <a:noFill/>
          </a:ln>
        </p:spPr>
      </p:pic>
      <p:sp>
        <p:nvSpPr>
          <p:cNvPr id="143" name="TextBox 1"/>
          <p:cNvSpPr/>
          <p:nvPr/>
        </p:nvSpPr>
        <p:spPr>
          <a:xfrm>
            <a:off x="324000" y="260280"/>
            <a:ext cx="8424720" cy="82548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entury Gothic"/>
                <a:ea typeface="Arial"/>
              </a:rPr>
              <a:t>Ilość UPPZ wykorzystanych w 2014 </a:t>
            </a:r>
            <a:r>
              <a:rPr b="0" lang="pl-PL" sz="2400" spc="-1" strike="noStrike" u="sng">
                <a:solidFill>
                  <a:srgbClr val="000000"/>
                </a:solidFill>
                <a:uFillTx/>
                <a:latin typeface="Century Gothic"/>
                <a:ea typeface="Arial"/>
              </a:rPr>
              <a:t>bezpośrednio</a:t>
            </a:r>
            <a:r>
              <a:rPr b="0" lang="pl-PL" sz="2400" spc="-1" strike="noStrike">
                <a:solidFill>
                  <a:srgbClr val="000000"/>
                </a:solidFill>
                <a:latin typeface="Century Gothic"/>
                <a:ea typeface="Arial"/>
              </a:rPr>
              <a:t> przez fermy mięsożernych zwierząt futerkowyc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ymbol zastępczy zawartości 2"/>
          <p:cNvSpPr/>
          <p:nvPr/>
        </p:nvSpPr>
        <p:spPr>
          <a:xfrm>
            <a:off x="28728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entury Gothic"/>
                <a:ea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3" descr=""/>
          <p:cNvPicPr/>
          <p:nvPr/>
        </p:nvPicPr>
        <p:blipFill>
          <a:blip r:embed="rId2"/>
          <a:stretch/>
        </p:blipFill>
        <p:spPr>
          <a:xfrm>
            <a:off x="4591080" y="1603440"/>
            <a:ext cx="3925800" cy="452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3" descr=""/>
          <p:cNvPicPr/>
          <p:nvPr/>
        </p:nvPicPr>
        <p:blipFill>
          <a:blip r:embed="rId1"/>
          <a:stretch/>
        </p:blipFill>
        <p:spPr>
          <a:xfrm>
            <a:off x="287280" y="2427120"/>
            <a:ext cx="5240520" cy="3140280"/>
          </a:xfrm>
          <a:prstGeom prst="rect">
            <a:avLst/>
          </a:prstGeom>
          <a:ln w="0">
            <a:noFill/>
          </a:ln>
        </p:spPr>
      </p:pic>
      <p:sp>
        <p:nvSpPr>
          <p:cNvPr id="147" name="TextBox 1"/>
          <p:cNvSpPr/>
          <p:nvPr/>
        </p:nvSpPr>
        <p:spPr>
          <a:xfrm>
            <a:off x="324000" y="260280"/>
            <a:ext cx="8424720" cy="119124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entury Gothic"/>
                <a:ea typeface="Arial"/>
              </a:rPr>
              <a:t>Ilość UPPZ wykorzystanych w 2014 r. przez </a:t>
            </a:r>
            <a:r>
              <a:rPr b="0" lang="pl-PL" sz="2400" spc="-1" strike="noStrike" u="sng">
                <a:solidFill>
                  <a:srgbClr val="000000"/>
                </a:solidFill>
                <a:uFillTx/>
                <a:latin typeface="Century Gothic"/>
                <a:ea typeface="Arial"/>
              </a:rPr>
              <a:t>punkty gromadzenia</a:t>
            </a:r>
            <a:r>
              <a:rPr b="0" lang="pl-PL" sz="2400" spc="-1" strike="noStrike">
                <a:solidFill>
                  <a:srgbClr val="000000"/>
                </a:solidFill>
                <a:latin typeface="Century Gothic"/>
                <a:ea typeface="Arial"/>
              </a:rPr>
              <a:t> do produkcji karm dla mięsożernych zwierząt futerkowyc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ymbol zastępczy zawartości 2"/>
          <p:cNvSpPr/>
          <p:nvPr/>
        </p:nvSpPr>
        <p:spPr>
          <a:xfrm>
            <a:off x="28728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entury Gothic"/>
                <a:ea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2" descr=""/>
          <p:cNvPicPr/>
          <p:nvPr/>
        </p:nvPicPr>
        <p:blipFill>
          <a:blip r:embed="rId2"/>
          <a:stretch/>
        </p:blipFill>
        <p:spPr>
          <a:xfrm>
            <a:off x="4716360" y="1623960"/>
            <a:ext cx="3614760" cy="5018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Box 1"/>
          <p:cNvSpPr/>
          <p:nvPr/>
        </p:nvSpPr>
        <p:spPr>
          <a:xfrm>
            <a:off x="179280" y="260280"/>
            <a:ext cx="8785440" cy="82548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entury Gothic"/>
                <a:ea typeface="Arial"/>
              </a:rPr>
              <a:t>Do żywienia mięsożernych zwierząt futerkowych w 2014 r. użyto 269 tys. ton surow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Symbol zastępczy zawartości 2"/>
          <p:cNvSpPr/>
          <p:nvPr/>
        </p:nvSpPr>
        <p:spPr>
          <a:xfrm>
            <a:off x="28728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entury Gothic"/>
                <a:ea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2" descr=""/>
          <p:cNvPicPr/>
          <p:nvPr/>
        </p:nvPicPr>
        <p:blipFill>
          <a:blip r:embed="rId1"/>
          <a:stretch/>
        </p:blipFill>
        <p:spPr>
          <a:xfrm>
            <a:off x="1517760" y="2997360"/>
            <a:ext cx="6037200" cy="362880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2"/>
          <p:cNvSpPr/>
          <p:nvPr/>
        </p:nvSpPr>
        <p:spPr>
          <a:xfrm>
            <a:off x="2689200" y="1413000"/>
            <a:ext cx="3959280" cy="12286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ffffff"/>
                </a:solidFill>
                <a:latin typeface="Century Gothic"/>
              </a:rPr>
              <a:t>269  320 t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Box 1"/>
          <p:cNvSpPr/>
          <p:nvPr/>
        </p:nvSpPr>
        <p:spPr>
          <a:xfrm>
            <a:off x="324000" y="260280"/>
            <a:ext cx="8424720" cy="64260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Century Gothic"/>
                <a:ea typeface="Arial"/>
              </a:rPr>
              <a:t>Tema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2"/>
          <p:cNvSpPr/>
          <p:nvPr/>
        </p:nvSpPr>
        <p:spPr>
          <a:xfrm>
            <a:off x="324000" y="1125360"/>
            <a:ext cx="8332560" cy="522936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80000"/>
              </a:lnSpc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d9d9d9"/>
                </a:solidFill>
                <a:latin typeface="Century Gothic"/>
                <a:ea typeface="Arial"/>
              </a:rPr>
              <a:t>Nowe zasady eksportu PAP do krajów trzeci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d9d9d9"/>
                </a:solidFill>
                <a:latin typeface="Century Gothic"/>
                <a:ea typeface="Arial"/>
              </a:rPr>
              <a:t>Urzędowe badania laboratoryjne produktów z krwi (ML, PC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d9d9d9"/>
                </a:solidFill>
                <a:latin typeface="Century Gothic"/>
                <a:ea typeface="Arial"/>
              </a:rPr>
              <a:t>Dane produkcyjne UPPZ i wykorzystanie P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Kontrole podmiotów sektora utylizacyjne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Zmiana częstotliwości oraz modelu kontroli – kontrola UPPZ w rzeźni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d9d9d9"/>
                </a:solidFill>
                <a:latin typeface="Century Gothic"/>
                <a:ea typeface="Arial"/>
              </a:rPr>
              <a:t>Dokumenty handlowe w transporcie UPPZ/PP - wzór D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d9d9d9"/>
                </a:solidFill>
                <a:latin typeface="Century Gothic"/>
                <a:ea typeface="Arial"/>
              </a:rPr>
              <a:t>     </a:t>
            </a:r>
            <a:r>
              <a:rPr b="0" lang="pl-PL" sz="1800" spc="-1" strike="noStrike">
                <a:solidFill>
                  <a:srgbClr val="d9d9d9"/>
                </a:solidFill>
                <a:latin typeface="Century Gothic"/>
                <a:ea typeface="Arial"/>
              </a:rPr>
              <a:t>oraz produkty spożywcze przekwalifikowane do utylizacji</a:t>
            </a:r>
            <a:br>
              <a:rPr sz="1800"/>
            </a:br>
            <a:r>
              <a:rPr b="0" lang="pl-PL" sz="1800" spc="-1" strike="noStrike">
                <a:solidFill>
                  <a:srgbClr val="d9d9d9"/>
                </a:solidFill>
                <a:latin typeface="Century Gothic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d9d9d9"/>
                </a:solidFill>
                <a:latin typeface="Century Gothic"/>
                <a:ea typeface="Arial"/>
              </a:rPr>
              <a:t>Handel UPPZ między zakładami przetwórczy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d9d9d9"/>
                </a:solidFill>
                <a:latin typeface="Century Gothic"/>
                <a:ea typeface="Arial"/>
              </a:rPr>
              <a:t>Aktualna sytuacja wykrywania nielegalnego stosowania mącz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d9d9d9"/>
                </a:solidFill>
                <a:latin typeface="Century Gothic"/>
                <a:ea typeface="Arial"/>
              </a:rPr>
              <a:t>Elektroniczny Rejestr Podmiotów Sektora Utylizacyjneg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d9d9d9"/>
                </a:solidFill>
                <a:latin typeface="Century Gothic"/>
                <a:ea typeface="Arial"/>
              </a:rPr>
              <a:t>TR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119160" y="1119240"/>
            <a:ext cx="8834400" cy="2147760"/>
          </a:xfrm>
          <a:prstGeom prst="rect">
            <a:avLst/>
          </a:prstGeom>
          <a:ln w="0">
            <a:noFill/>
          </a:ln>
        </p:spPr>
      </p:pic>
      <p:sp>
        <p:nvSpPr>
          <p:cNvPr id="157" name="TextBox 2"/>
          <p:cNvSpPr/>
          <p:nvPr/>
        </p:nvSpPr>
        <p:spPr>
          <a:xfrm>
            <a:off x="324000" y="260280"/>
            <a:ext cx="8424720" cy="64260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Century Gothic"/>
                <a:ea typeface="Arial"/>
              </a:rPr>
              <a:t>Kontrole 2014(zakłady przetwórcz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2" descr=""/>
          <p:cNvPicPr/>
          <p:nvPr/>
        </p:nvPicPr>
        <p:blipFill>
          <a:blip r:embed="rId2"/>
          <a:stretch/>
        </p:blipFill>
        <p:spPr>
          <a:xfrm>
            <a:off x="142920" y="3357720"/>
            <a:ext cx="5245200" cy="32652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3" descr=""/>
          <p:cNvPicPr/>
          <p:nvPr/>
        </p:nvPicPr>
        <p:blipFill>
          <a:blip r:embed="rId3"/>
          <a:stretch/>
        </p:blipFill>
        <p:spPr>
          <a:xfrm>
            <a:off x="5430960" y="4005360"/>
            <a:ext cx="3624120" cy="217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Box 2"/>
          <p:cNvSpPr/>
          <p:nvPr/>
        </p:nvSpPr>
        <p:spPr>
          <a:xfrm>
            <a:off x="324000" y="260280"/>
            <a:ext cx="8424720" cy="64260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Century Gothic"/>
                <a:ea typeface="Arial"/>
              </a:rPr>
              <a:t>Stwierdzane uchybienia (częst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ymbol zastępczy zawartości 2"/>
          <p:cNvSpPr/>
          <p:nvPr/>
        </p:nvSpPr>
        <p:spPr>
          <a:xfrm>
            <a:off x="336600" y="1557360"/>
            <a:ext cx="8229600" cy="452592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entury Gothic"/>
                <a:ea typeface="Arial"/>
              </a:rPr>
              <a:t>brak odpowiedniej czystości w zakładac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entury Gothic"/>
                <a:ea typeface="Arial"/>
              </a:rPr>
              <a:t>brak/niepełna kalibracja urządzeń pomiarowyc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entury Gothic"/>
                <a:ea typeface="Arial"/>
              </a:rPr>
              <a:t>braki w dokumentacji HACC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entury Gothic"/>
                <a:ea typeface="Arial"/>
              </a:rPr>
              <a:t>nieprawidłowości w procedurach w zakresie np. DD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entury Gothic"/>
                <a:ea typeface="Arial"/>
              </a:rPr>
              <a:t>brak zabezpieczenia magazynów przed szkodnika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entury Gothic"/>
                <a:ea typeface="Arial"/>
              </a:rPr>
              <a:t>niesystematyczne wpisy w książkach kontroli sanitarnej pojazdów transportujących UPP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entury Gothic"/>
                <a:ea typeface="Arial"/>
              </a:rPr>
              <a:t>niepełny harmonogram pobierania próbek właścicielskich do bada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entury Gothic"/>
                <a:ea typeface="Arial"/>
              </a:rPr>
              <a:t>nieprawidłowości strukturalne (nierówności i zastoiny wody na drogach wewnętrznych zakładu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Box 1"/>
          <p:cNvSpPr/>
          <p:nvPr/>
        </p:nvSpPr>
        <p:spPr>
          <a:xfrm>
            <a:off x="324000" y="260280"/>
            <a:ext cx="8424720" cy="64260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Century Gothic"/>
                <a:ea typeface="Arial"/>
              </a:rPr>
              <a:t>Tema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2"/>
          <p:cNvSpPr/>
          <p:nvPr/>
        </p:nvSpPr>
        <p:spPr>
          <a:xfrm>
            <a:off x="324000" y="1125360"/>
            <a:ext cx="8332560" cy="522936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Nowe zasady eksportu PAP do krajów trzeci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d9d9d9"/>
                </a:solidFill>
                <a:latin typeface="Century Gothic"/>
                <a:ea typeface="Arial"/>
              </a:rPr>
              <a:t>Urzędowe badania laboratoryjne produktów z krwi (PC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d9d9d9"/>
                </a:solidFill>
                <a:latin typeface="Century Gothic"/>
                <a:ea typeface="Arial"/>
              </a:rPr>
              <a:t>Dane produkcyjne UPPZ i wykorzystanie P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d9d9d9"/>
                </a:solidFill>
                <a:latin typeface="Century Gothic"/>
                <a:ea typeface="Arial"/>
              </a:rPr>
              <a:t>Kontrole podmiotów sektora utylizacyjnego w 2015 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d9d9d9"/>
                </a:solidFill>
                <a:latin typeface="Century Gothic"/>
                <a:ea typeface="Arial"/>
              </a:rPr>
              <a:t>Zmiana częstotliwości oraz modelu kontroli – kontrola UPPZ w rzeźni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d9d9d9"/>
                </a:solidFill>
                <a:latin typeface="Century Gothic"/>
                <a:ea typeface="Arial"/>
              </a:rPr>
              <a:t>Dokumenty handlowe w transporcie UPPZ/PP - wzór D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d9d9d9"/>
                </a:solidFill>
                <a:latin typeface="Century Gothic"/>
                <a:ea typeface="Arial"/>
              </a:rPr>
              <a:t>     </a:t>
            </a:r>
            <a:r>
              <a:rPr b="0" lang="pl-PL" sz="1800" spc="-1" strike="noStrike">
                <a:solidFill>
                  <a:srgbClr val="d9d9d9"/>
                </a:solidFill>
                <a:latin typeface="Century Gothic"/>
                <a:ea typeface="Arial"/>
              </a:rPr>
              <a:t>oraz produkty spożywcze przekwalifikowane do utylizacji</a:t>
            </a:r>
            <a:br>
              <a:rPr sz="1800"/>
            </a:br>
            <a:r>
              <a:rPr b="0" lang="pl-PL" sz="1800" spc="-1" strike="noStrike">
                <a:solidFill>
                  <a:srgbClr val="d9d9d9"/>
                </a:solidFill>
                <a:latin typeface="Century Gothic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d9d9d9"/>
                </a:solidFill>
                <a:latin typeface="Century Gothic"/>
                <a:ea typeface="Arial"/>
              </a:rPr>
              <a:t>Handel UPPZ między zakładami przetwórczy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d9d9d9"/>
                </a:solidFill>
                <a:latin typeface="Century Gothic"/>
                <a:ea typeface="Arial"/>
              </a:rPr>
              <a:t>Aktualna sytuacja wykrywania nielegalnego stosowania mącz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d9d9d9"/>
                </a:solidFill>
                <a:latin typeface="Century Gothic"/>
                <a:ea typeface="Arial"/>
              </a:rPr>
              <a:t>Elektroniczny Rejestr Podmiotów Sektora Utylizacyjneg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d9d9d9"/>
                </a:solidFill>
                <a:latin typeface="Century Gothic"/>
                <a:ea typeface="Arial"/>
              </a:rPr>
              <a:t>TR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Box 2"/>
          <p:cNvSpPr/>
          <p:nvPr/>
        </p:nvSpPr>
        <p:spPr>
          <a:xfrm>
            <a:off x="324000" y="260280"/>
            <a:ext cx="8424720" cy="64260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Century Gothic"/>
                <a:ea typeface="Arial"/>
              </a:rPr>
              <a:t>Stwierdzane uchybienia (rzadko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ymbol zastępczy zawartości 2"/>
          <p:cNvSpPr/>
          <p:nvPr/>
        </p:nvSpPr>
        <p:spPr>
          <a:xfrm>
            <a:off x="336600" y="1557360"/>
            <a:ext cx="8229600" cy="452592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entury Gothic"/>
                <a:ea typeface="Arial"/>
              </a:rPr>
              <a:t>brak/nieprawidłowe znakowanie G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entury Gothic"/>
                <a:ea typeface="Arial"/>
              </a:rPr>
              <a:t>niekompletne podpisy w dokumentach handlowy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entury Gothic"/>
                <a:ea typeface="Arial"/>
              </a:rPr>
              <a:t>nieczytelne oznakowanie środków transport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entury Gothic"/>
                <a:ea typeface="Arial"/>
              </a:rPr>
              <a:t>magazynowanie produktu poza wyznaczonym magazynem produk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entury Gothic"/>
                <a:ea typeface="Arial"/>
              </a:rPr>
              <a:t>obudowy maszyn skorodowane, zły stan techniczny urządze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entury Gothic"/>
                <a:ea typeface="Arial"/>
              </a:rPr>
              <a:t>brak dokumentacji towarzyszącej produktom przyjmowanym i wysyłanym z zakład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Box 2"/>
          <p:cNvSpPr/>
          <p:nvPr/>
        </p:nvSpPr>
        <p:spPr>
          <a:xfrm>
            <a:off x="324000" y="260280"/>
            <a:ext cx="8424720" cy="64260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entury Gothic"/>
                <a:ea typeface="Arial"/>
              </a:rPr>
              <a:t>Minimalna częstotliwość kontroli - od 2015</a:t>
            </a:r>
            <a:r>
              <a:rPr b="0" lang="pl-PL" sz="3600" spc="-1" strike="noStrike">
                <a:solidFill>
                  <a:srgbClr val="000000"/>
                </a:solidFill>
                <a:latin typeface="Century Gothic"/>
                <a:ea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4" descr=""/>
          <p:cNvPicPr/>
          <p:nvPr/>
        </p:nvPicPr>
        <p:blipFill>
          <a:blip r:embed="rId1"/>
          <a:stretch/>
        </p:blipFill>
        <p:spPr>
          <a:xfrm>
            <a:off x="633240" y="952560"/>
            <a:ext cx="7804440" cy="526104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5" descr=""/>
          <p:cNvPicPr/>
          <p:nvPr/>
        </p:nvPicPr>
        <p:blipFill>
          <a:blip r:embed="rId2"/>
          <a:stretch/>
        </p:blipFill>
        <p:spPr>
          <a:xfrm>
            <a:off x="293760" y="6259680"/>
            <a:ext cx="8437320" cy="585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Box 2"/>
          <p:cNvSpPr/>
          <p:nvPr/>
        </p:nvSpPr>
        <p:spPr>
          <a:xfrm>
            <a:off x="324000" y="260280"/>
            <a:ext cx="8424720" cy="94716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entury Gothic"/>
                <a:ea typeface="Arial"/>
              </a:rPr>
              <a:t>Kontrola rzeźni przez Inspektora ds. Utylizacji – główne zadan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Symbol zastępczy zawartości 2"/>
          <p:cNvSpPr/>
          <p:nvPr/>
        </p:nvSpPr>
        <p:spPr>
          <a:xfrm>
            <a:off x="336600" y="1557360"/>
            <a:ext cx="8378640" cy="480060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Kontrola wagi i rodzaju powstających w rzeźni  i  wysyłanych UPPZ, w stosunku do liczby ubijanych zwierząt (bila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Kontrola warunków przechowywania UPPZ przed wysyłką oraz częstotliwości prowadzonych wysył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Kontrola uprawnień podmiotów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b050"/>
                </a:solidFill>
                <a:latin typeface="Calibri"/>
                <a:ea typeface="Arial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  <a:ea typeface="Arial"/>
              </a:rPr>
              <a:t>- </a:t>
            </a:r>
            <a:r>
              <a:rPr b="0" lang="pl-PL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transportujących UPP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- odbierających UPP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Kontrola dokumentacji handlowe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9" name=""/>
          <p:cNvGraphicFramePr/>
          <p:nvPr/>
        </p:nvGraphicFramePr>
        <p:xfrm>
          <a:off x="395280" y="260280"/>
          <a:ext cx="8280360" cy="6357960"/>
        </p:xfrm>
        <a:graphic>
          <a:graphicData uri="http://schemas.openxmlformats.org/drawingml/2006/table">
            <a:tbl>
              <a:tblPr/>
              <a:tblGrid>
                <a:gridCol w="1117440"/>
                <a:gridCol w="919440"/>
                <a:gridCol w="950760"/>
                <a:gridCol w="951120"/>
                <a:gridCol w="950760"/>
                <a:gridCol w="950760"/>
                <a:gridCol w="816120"/>
                <a:gridCol w="816120"/>
                <a:gridCol w="807840"/>
              </a:tblGrid>
              <a:tr h="479160">
                <a:tc rowSpan="3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Gatune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  <a:tc rowSpan="3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Waga żyw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(kg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  <a:tc gridSpan="4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Z wagi żywca (kg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Z tuszy (kg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Razem UPP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</a:tr>
              <a:tr h="447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Tusz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Skó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  <a:tc grid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UPP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Mięs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UPP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39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SR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nie - SR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47480"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Bydł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&lt;30 m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6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8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9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  <a:tr h="447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ff0000"/>
                          </a:solidFill>
                          <a:latin typeface="Century Gothic"/>
                        </a:rPr>
                        <a:t>1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ff0000"/>
                          </a:solidFill>
                          <a:latin typeface="Century Gothic"/>
                        </a:rPr>
                        <a:t>6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ff0000"/>
                          </a:solidFill>
                          <a:latin typeface="Century Gothic"/>
                        </a:rPr>
                        <a:t>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ff0000"/>
                          </a:solidFill>
                          <a:latin typeface="Century Gothic"/>
                        </a:rPr>
                        <a:t>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ff0000"/>
                          </a:solidFill>
                          <a:latin typeface="Century Gothic"/>
                        </a:rPr>
                        <a:t>3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ff0000"/>
                          </a:solidFill>
                          <a:latin typeface="Century Gothic"/>
                        </a:rPr>
                        <a:t>4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ff0000"/>
                          </a:solidFill>
                          <a:latin typeface="Century Gothic"/>
                        </a:rPr>
                        <a:t>1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ff0000"/>
                          </a:solidFill>
                          <a:latin typeface="Century Gothic"/>
                        </a:rPr>
                        <a:t>5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  <a:tr h="447480"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Bydł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 </a:t>
                      </a: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&gt;30 m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6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8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  <a:tr h="447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ff0000"/>
                          </a:solidFill>
                          <a:latin typeface="Century Gothic"/>
                        </a:rPr>
                        <a:t>1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ff0000"/>
                          </a:solidFill>
                          <a:latin typeface="Century Gothic"/>
                        </a:rPr>
                        <a:t>5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ff0000"/>
                          </a:solidFill>
                          <a:latin typeface="Century Gothic"/>
                        </a:rPr>
                        <a:t>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ff0000"/>
                          </a:solidFill>
                          <a:latin typeface="Century Gothic"/>
                        </a:rPr>
                        <a:t>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ff0000"/>
                          </a:solidFill>
                          <a:latin typeface="Century Gothic"/>
                        </a:rPr>
                        <a:t>3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ff0000"/>
                          </a:solidFill>
                          <a:latin typeface="Century Gothic"/>
                        </a:rPr>
                        <a:t>3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ff0000"/>
                          </a:solidFill>
                          <a:latin typeface="Century Gothic"/>
                        </a:rPr>
                        <a:t>1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ff0000"/>
                          </a:solidFill>
                          <a:latin typeface="Century Gothic"/>
                        </a:rPr>
                        <a:t>5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  <a:tr h="447480"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Trzoda chlew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5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  <a:tr h="447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ff0000"/>
                          </a:solidFill>
                          <a:latin typeface="Century Gothic"/>
                        </a:rPr>
                        <a:t>1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ff0000"/>
                          </a:solidFill>
                          <a:latin typeface="Century Gothic"/>
                        </a:rPr>
                        <a:t>7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ff0000"/>
                          </a:solidFill>
                          <a:latin typeface="Century Gothic"/>
                        </a:rPr>
                        <a:t>2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ff0000"/>
                          </a:solidFill>
                          <a:latin typeface="Century Gothic"/>
                        </a:rPr>
                        <a:t>5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ff0000"/>
                          </a:solidFill>
                          <a:latin typeface="Century Gothic"/>
                        </a:rPr>
                        <a:t>2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ff0000"/>
                          </a:solidFill>
                          <a:latin typeface="Century Gothic"/>
                        </a:rPr>
                        <a:t>4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  <a:tr h="479160"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Owce/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koz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5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  <a:tr h="447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ff0000"/>
                          </a:solidFill>
                          <a:latin typeface="Century Gothic"/>
                        </a:rPr>
                        <a:t>1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ff0000"/>
                          </a:solidFill>
                          <a:latin typeface="Century Gothic"/>
                        </a:rPr>
                        <a:t>6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ff0000"/>
                          </a:solidFill>
                          <a:latin typeface="Century Gothic"/>
                        </a:rPr>
                        <a:t>1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ff0000"/>
                          </a:solidFill>
                          <a:latin typeface="Century Gothic"/>
                        </a:rPr>
                        <a:t>2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ff0000"/>
                          </a:solidFill>
                          <a:latin typeface="Century Gothic"/>
                        </a:rPr>
                        <a:t>4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ff0000"/>
                          </a:solidFill>
                          <a:latin typeface="Century Gothic"/>
                        </a:rPr>
                        <a:t>1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ff0000"/>
                          </a:solidFill>
                          <a:latin typeface="Century Gothic"/>
                        </a:rPr>
                        <a:t>4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  <a:tr h="447480"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Dró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0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0,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  <a:tr h="532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ff0000"/>
                          </a:solidFill>
                          <a:latin typeface="Century Gothic"/>
                        </a:rPr>
                        <a:t>1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ff0000"/>
                          </a:solidFill>
                          <a:latin typeface="Century Gothic"/>
                        </a:rPr>
                        <a:t>7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ff0000"/>
                          </a:solidFill>
                          <a:latin typeface="Century Gothic"/>
                        </a:rPr>
                        <a:t>2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ff0000"/>
                          </a:solidFill>
                          <a:latin typeface="Century Gothic"/>
                        </a:rPr>
                        <a:t>7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ff0000"/>
                          </a:solidFill>
                          <a:latin typeface="Century Gothic"/>
                        </a:rPr>
                        <a:t>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ff0000"/>
                          </a:solidFill>
                          <a:latin typeface="Century Gothic"/>
                        </a:rPr>
                        <a:t>2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Box 2"/>
          <p:cNvSpPr/>
          <p:nvPr/>
        </p:nvSpPr>
        <p:spPr>
          <a:xfrm>
            <a:off x="324000" y="260280"/>
            <a:ext cx="8424720" cy="642600"/>
          </a:xfrm>
          <a:prstGeom prst="rect">
            <a:avLst/>
          </a:prstGeom>
          <a:solidFill>
            <a:srgbClr val="ff0000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Century Gothic"/>
                <a:ea typeface="Arial"/>
              </a:rPr>
              <a:t>Uwag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ymbol zastępczy zawartości 2"/>
          <p:cNvSpPr/>
          <p:nvPr/>
        </p:nvSpPr>
        <p:spPr>
          <a:xfrm>
            <a:off x="336600" y="2349360"/>
            <a:ext cx="8229600" cy="266400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entury Gothic"/>
                <a:ea typeface="Arial"/>
              </a:rPr>
              <a:t>Cross checking – mailowe/telefoniczne sprawdzenie krzyżowe między PIW - PIW czy towar dotarł do punktu przeznaczenia, wskazanego na dokumencie handlowy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Box 2"/>
          <p:cNvSpPr/>
          <p:nvPr/>
        </p:nvSpPr>
        <p:spPr>
          <a:xfrm>
            <a:off x="324000" y="260280"/>
            <a:ext cx="8424720" cy="642600"/>
          </a:xfrm>
          <a:prstGeom prst="rect">
            <a:avLst/>
          </a:prstGeom>
          <a:solidFill>
            <a:srgbClr val="ff0000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Century Gothic"/>
                <a:ea typeface="Arial"/>
              </a:rPr>
              <a:t>Uwag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ymbol zastępczy zawartości 2"/>
          <p:cNvSpPr/>
          <p:nvPr/>
        </p:nvSpPr>
        <p:spPr>
          <a:xfrm>
            <a:off x="336600" y="2349360"/>
            <a:ext cx="8229600" cy="266400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entury Gothic"/>
                <a:ea typeface="Arial"/>
              </a:rPr>
              <a:t>Wyrywkowa kontrola przesyłek w oparciu o dodatkowe dokumenty przewozowe  tj. np. CMR, WZ, F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2400" cy="147024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Century Gothic"/>
              </a:rPr>
              <a:t>Nowe protokoły kontroli SPIWET</a:t>
            </a:r>
            <a:br>
              <a:rPr sz="3600"/>
            </a:br>
            <a:r>
              <a:rPr b="0" lang="pl-PL" sz="2200" spc="-1" strike="noStrike">
                <a:solidFill>
                  <a:srgbClr val="000000"/>
                </a:solidFill>
                <a:latin typeface="Century Gothic"/>
              </a:rPr>
              <a:t>(dostępne na stronie www.wetgiw.gov.pl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684360" y="2133720"/>
            <a:ext cx="7775280" cy="395928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300"/>
            </a:br>
            <a:r>
              <a:rPr b="0" lang="pl-PL" sz="1400" spc="-1" strike="noStrike">
                <a:solidFill>
                  <a:srgbClr val="000000"/>
                </a:solidFill>
                <a:latin typeface="Century Gothic"/>
              </a:rPr>
              <a:t>01_SPIWET_ZAKŁADY PRZETWÓRC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entury Gothic"/>
              </a:rPr>
              <a:t>02_SPIWET_ZAKŁADY POŚREDNI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entury Gothic"/>
              </a:rPr>
              <a:t>03_ SPIWET_SPALARNIE I WSPÓŁSPALARNI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entury Gothic"/>
              </a:rPr>
              <a:t>04_ SPIWET_TRANSPOR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entury Gothic"/>
              </a:rPr>
              <a:t>05_ SPIWET PETFOO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entury Gothic"/>
              </a:rPr>
              <a:t>06_SPIWET_GOSPODARSTWA UTRZYMUJĄCE ZWIERZĘT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pl-PL" sz="1400" spc="-1" strike="noStrike">
                <a:solidFill>
                  <a:srgbClr val="000000"/>
                </a:solidFill>
                <a:latin typeface="Century Gothic"/>
              </a:rPr>
              <a:t>FUTERKOWE I STOSUJĄCE UPPZ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entury Gothic"/>
              </a:rPr>
              <a:t>07_SPIWET_GOSPODARSTWA STOSUJĄCE NO/P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entury Gothic"/>
              </a:rPr>
              <a:t>08_ SPIWET SYSTEM HACC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2400" cy="147024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Century Gothic"/>
              </a:rPr>
              <a:t>Kontrole IW na rok 2016 - priorytet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84360" y="2133720"/>
            <a:ext cx="7775280" cy="395928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300"/>
            </a:br>
            <a:r>
              <a:rPr b="0" lang="pl-PL" sz="2000" spc="-1" strike="noStrike">
                <a:solidFill>
                  <a:srgbClr val="000000"/>
                </a:solidFill>
                <a:latin typeface="Century Gothic"/>
              </a:rPr>
              <a:t>- zagospodarowanie krwi z rzeźn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Century Gothic"/>
              </a:rPr>
              <a:t>kontrola uzysku UPPZ w rzeźniach – kontynuac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0" lang="pl-PL" sz="2000" spc="-1" strike="noStrike">
                <a:solidFill>
                  <a:srgbClr val="000000"/>
                </a:solidFill>
                <a:latin typeface="Century Gothic"/>
              </a:rPr>
              <a:t>wydajność produkcyjna w zakładach przetwórczyc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Century Gothic"/>
              </a:rPr>
              <a:t>zagospodarowanie SRM pochodzącego z uboju gospodarskieg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Century Gothic"/>
              </a:rPr>
              <a:t>kontrola dokumentacji handlowej UPPZ (HD vs. HDI), treceabili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Box 1"/>
          <p:cNvSpPr/>
          <p:nvPr/>
        </p:nvSpPr>
        <p:spPr>
          <a:xfrm>
            <a:off x="324000" y="260280"/>
            <a:ext cx="8424720" cy="64260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Century Gothic"/>
                <a:ea typeface="Arial"/>
              </a:rPr>
              <a:t>Tema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Box 2"/>
          <p:cNvSpPr/>
          <p:nvPr/>
        </p:nvSpPr>
        <p:spPr>
          <a:xfrm>
            <a:off x="324000" y="1125360"/>
            <a:ext cx="8332560" cy="522936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80000"/>
              </a:lnSpc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d9d9d9"/>
                </a:solidFill>
                <a:latin typeface="Century Gothic"/>
                <a:ea typeface="Arial"/>
              </a:rPr>
              <a:t>Nowe zasady eksportu PAP do krajów trzeci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d9d9d9"/>
                </a:solidFill>
                <a:latin typeface="Century Gothic"/>
                <a:ea typeface="Arial"/>
              </a:rPr>
              <a:t>Urzędowe badania laboratoryjne produktów z krwi (ML, PC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d9d9d9"/>
                </a:solidFill>
                <a:latin typeface="Century Gothic"/>
                <a:ea typeface="Arial"/>
              </a:rPr>
              <a:t>Dane produkcyjne UPPZ i wykorzystanie P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d9d9d9"/>
                </a:solidFill>
                <a:latin typeface="Century Gothic"/>
                <a:ea typeface="Arial"/>
              </a:rPr>
              <a:t>Kontrole podmiotów sektora utylizacyjne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d9d9d9"/>
                </a:solidFill>
                <a:latin typeface="Century Gothic"/>
                <a:ea typeface="Arial"/>
              </a:rPr>
              <a:t>Zmiana częstotliwości oraz modelu kontroli – kontrola UPPZ w rzeźni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Dokumenty handlowe w transporcie UPPZ/PP - wzór D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d9d9d9"/>
                </a:solidFill>
                <a:latin typeface="Century Gothic"/>
                <a:ea typeface="Arial"/>
              </a:rPr>
              <a:t>     </a:t>
            </a:r>
            <a:r>
              <a:rPr b="0" lang="pl-PL" sz="1800" spc="-1" strike="noStrike">
                <a:solidFill>
                  <a:srgbClr val="d9d9d9"/>
                </a:solidFill>
                <a:latin typeface="Century Gothic"/>
                <a:ea typeface="Arial"/>
              </a:rPr>
              <a:t>oraz produkty spożywcze przekwalifikowane do utylizacji</a:t>
            </a:r>
            <a:br>
              <a:rPr sz="1800"/>
            </a:br>
            <a:r>
              <a:rPr b="0" lang="pl-PL" sz="1800" spc="-1" strike="noStrike">
                <a:solidFill>
                  <a:srgbClr val="d9d9d9"/>
                </a:solidFill>
                <a:latin typeface="Century Gothic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d9d9d9"/>
                </a:solidFill>
                <a:latin typeface="Century Gothic"/>
                <a:ea typeface="Arial"/>
              </a:rPr>
              <a:t>Handel UPPZ między zakładami przetwórczy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d9d9d9"/>
                </a:solidFill>
                <a:latin typeface="Century Gothic"/>
                <a:ea typeface="Arial"/>
              </a:rPr>
              <a:t>Aktualna sytuacja wykrywania nielegalnego stosowania mącz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d9d9d9"/>
                </a:solidFill>
                <a:latin typeface="Century Gothic"/>
                <a:ea typeface="Arial"/>
              </a:rPr>
              <a:t>Elektroniczny Rejestr Podmiotów Sektora Utylizacyjneg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d9d9d9"/>
                </a:solidFill>
                <a:latin typeface="Century Gothic"/>
                <a:ea typeface="Arial"/>
              </a:rPr>
              <a:t>TR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Box 2"/>
          <p:cNvSpPr/>
          <p:nvPr/>
        </p:nvSpPr>
        <p:spPr>
          <a:xfrm>
            <a:off x="324000" y="260280"/>
            <a:ext cx="8424720" cy="108108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Century Gothic"/>
                <a:ea typeface="Arial"/>
              </a:rPr>
              <a:t>Wzór dokumentu Handlowego przy wysyłce UPPZ/PP W Pols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Symbol zastępczy zawartości 2"/>
          <p:cNvSpPr/>
          <p:nvPr/>
        </p:nvSpPr>
        <p:spPr>
          <a:xfrm>
            <a:off x="441360" y="2492280"/>
            <a:ext cx="8229600" cy="252108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Podstawa prawn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0000"/>
                </a:solidFill>
                <a:latin typeface="Century Gothic"/>
                <a:ea typeface="Arial"/>
              </a:rPr>
              <a:t>Rozporządzenie Ministra Rolnictwa i Rozwoju Ws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0000"/>
                </a:solidFill>
                <a:latin typeface="Century Gothic"/>
                <a:ea typeface="Arial"/>
              </a:rPr>
              <a:t>z dnia 19 sierpnia 2014 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w sprawie wzoru dokumentu handlowego stosowanego przy przewozie, wyłącznie na terytorium Rzeczypospolitej Polskiej, produktów ubocznych pochodzenia zwierzęcego i produktów pochodny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(Dz. U. z 2014, poz. 122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entury Gothic"/>
                <a:ea typeface="Arial"/>
              </a:rPr>
              <a:t>Zmiany procedur eksportu PAP z krajów członkowskich UE do krajów trzeci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611280" y="1412640"/>
            <a:ext cx="78184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entury Gothic"/>
                <a:ea typeface="Arial"/>
              </a:rPr>
              <a:t>Planowane wejście w życie nowych przepisów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c00000"/>
                </a:solidFill>
                <a:latin typeface="Century Gothic"/>
                <a:ea typeface="Arial"/>
              </a:rPr>
              <a:t>luty – marzec 2016 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-892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68360" y="260280"/>
            <a:ext cx="4038480" cy="539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48320" y="188640"/>
            <a:ext cx="403848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5" name="Picture 7" descr=""/>
          <p:cNvPicPr/>
          <p:nvPr/>
        </p:nvPicPr>
        <p:blipFill>
          <a:blip r:embed="rId1"/>
          <a:stretch/>
        </p:blipFill>
        <p:spPr>
          <a:xfrm>
            <a:off x="4643280" y="0"/>
            <a:ext cx="4500720" cy="685800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8" descr=""/>
          <p:cNvPicPr/>
          <p:nvPr/>
        </p:nvPicPr>
        <p:blipFill>
          <a:blip r:embed="rId2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3240">
            <a:solidFill>
              <a:srgbClr val="4f81bd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ff0000"/>
                </a:solidFill>
                <a:latin typeface="Bookman Old Style"/>
              </a:rPr>
              <a:t>Dokumentacja</a:t>
            </a:r>
            <a:r>
              <a:rPr b="1" lang="pl-PL" sz="2200" spc="-1" strike="noStrike">
                <a:solidFill>
                  <a:srgbClr val="000000"/>
                </a:solidFill>
                <a:latin typeface="Bookman Old Style"/>
              </a:rPr>
              <a:t> towarzysząca środkom spożywczym pochodzenia zwierzęcego przeznaczonym do zagospodarowania w zakładach sektora utylizacyjnego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9360">
            <a:solidFill>
              <a:srgbClr val="0070c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entury Gothic"/>
              </a:rPr>
              <a:t>Przykłady praktyczn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entury Gothic"/>
              </a:rPr>
              <a:t>kości spożywcze przewożone do zakładu przetwórczego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entury Gothic"/>
              </a:rPr>
              <a:t>Podroby/mięso spożywcze przeznaczone do produkcji karm dla zwierząt domowych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entury Gothic"/>
              </a:rPr>
              <a:t>tłuszcze spożywcze przeznaczone do produkcji biodiesla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entury Gothic"/>
              </a:rPr>
              <a:t>mleko w proszku spożywcze przeznaczone do produkcji pasz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9" name="Picture 5" descr="Kości cielęce"/>
          <p:cNvPicPr/>
          <p:nvPr/>
        </p:nvPicPr>
        <p:blipFill>
          <a:blip r:embed="rId1"/>
          <a:stretch/>
        </p:blipFill>
        <p:spPr>
          <a:xfrm>
            <a:off x="7236000" y="2421000"/>
            <a:ext cx="1110960" cy="72072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7" descr="Podroby"/>
          <p:cNvPicPr/>
          <p:nvPr/>
        </p:nvPicPr>
        <p:blipFill>
          <a:blip r:embed="rId2"/>
          <a:stretch/>
        </p:blipFill>
        <p:spPr>
          <a:xfrm>
            <a:off x="3419640" y="3716280"/>
            <a:ext cx="828360" cy="576360"/>
          </a:xfrm>
          <a:prstGeom prst="rect">
            <a:avLst/>
          </a:prstGeom>
          <a:ln w="0">
            <a:noFill/>
          </a:ln>
        </p:spPr>
      </p:pic>
      <p:sp>
        <p:nvSpPr>
          <p:cNvPr id="191" name="AutoShape 9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11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13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15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AutoShape 17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AutoShape 19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utoShape 21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22" descr="C:\Users\krzysztof.bednarczyk\Desktop\olej2-150x150.jpg"/>
          <p:cNvPicPr/>
          <p:nvPr/>
        </p:nvPicPr>
        <p:blipFill>
          <a:blip r:embed="rId3"/>
          <a:stretch/>
        </p:blipFill>
        <p:spPr>
          <a:xfrm>
            <a:off x="7308720" y="4149720"/>
            <a:ext cx="863640" cy="71928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23" descr="C:\Users\krzysztof.bednarczyk\Desktop\Mleko_proszku_ktore_moze_6036932 (1).jpg"/>
          <p:cNvPicPr/>
          <p:nvPr/>
        </p:nvPicPr>
        <p:blipFill>
          <a:blip r:embed="rId4"/>
          <a:stretch/>
        </p:blipFill>
        <p:spPr>
          <a:xfrm>
            <a:off x="7667640" y="5084640"/>
            <a:ext cx="936720" cy="50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2" descr=""/>
          <p:cNvPicPr/>
          <p:nvPr/>
        </p:nvPicPr>
        <p:blipFill>
          <a:blip r:embed="rId1"/>
          <a:stretch/>
        </p:blipFill>
        <p:spPr>
          <a:xfrm>
            <a:off x="4643280" y="284040"/>
            <a:ext cx="4175280" cy="63849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201" name="Picture 5" descr="http://www.sklep-remib.eu/1079-thickbox_default/handlowy-dokument-identyfikacyjny-samokopiujacy.jpg"/>
          <p:cNvPicPr/>
          <p:nvPr/>
        </p:nvPicPr>
        <p:blipFill>
          <a:blip r:embed="rId2"/>
          <a:stretch/>
        </p:blipFill>
        <p:spPr>
          <a:xfrm>
            <a:off x="250920" y="284040"/>
            <a:ext cx="4213080" cy="643104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sp>
        <p:nvSpPr>
          <p:cNvPr id="202" name="Straight Connector 3"/>
          <p:cNvSpPr/>
          <p:nvPr/>
        </p:nvSpPr>
        <p:spPr>
          <a:xfrm>
            <a:off x="395280" y="549360"/>
            <a:ext cx="3745080" cy="604836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Straight Connector 7"/>
          <p:cNvSpPr/>
          <p:nvPr/>
        </p:nvSpPr>
        <p:spPr>
          <a:xfrm flipH="1">
            <a:off x="468360" y="404640"/>
            <a:ext cx="3456000" cy="619308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ole tekstowe 5"/>
          <p:cNvSpPr/>
          <p:nvPr/>
        </p:nvSpPr>
        <p:spPr>
          <a:xfrm>
            <a:off x="6165000" y="2637000"/>
            <a:ext cx="1547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8800" spc="-1" strike="noStrike">
                <a:solidFill>
                  <a:srgbClr val="00b050"/>
                </a:solidFill>
                <a:latin typeface="Calibri"/>
                <a:ea typeface="Arial"/>
              </a:rPr>
              <a:t>OK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94920" y="274320"/>
            <a:ext cx="8209080" cy="1143000"/>
          </a:xfrm>
          <a:prstGeom prst="rect">
            <a:avLst/>
          </a:prstGeom>
          <a:solidFill>
            <a:srgbClr val="ffffff"/>
          </a:solidFill>
          <a:ln w="3240">
            <a:solidFill>
              <a:srgbClr val="4f81bd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entury Gothic"/>
              </a:rPr>
              <a:t>Transport środków spożywczych pochodzenia zwierzęcego do zagospodarowania w zakładach sektora utylizacyjneg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95280" y="1639800"/>
            <a:ext cx="8229600" cy="4525920"/>
          </a:xfrm>
          <a:prstGeom prst="rect">
            <a:avLst/>
          </a:prstGeom>
          <a:solidFill>
            <a:srgbClr val="ffffff"/>
          </a:solidFill>
          <a:ln w="324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600" spc="-1" strike="noStrike">
                <a:solidFill>
                  <a:srgbClr val="ff0000"/>
                </a:solidFill>
                <a:latin typeface="Century Gothic"/>
              </a:rPr>
              <a:t>Przesyłkom powinien towarzyszyć dokument handlowy właściwy dla UPPZ 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pl-PL" sz="1600" spc="-1" strike="noStrike">
                <a:solidFill>
                  <a:srgbClr val="000000"/>
                </a:solidFill>
                <a:latin typeface="Century Gothic"/>
              </a:rPr>
              <a:t>Art. 2 ust. 1 lit. b rozporządzenia (WE) nr 1069/2009 - produkty pochodzenia zwierzęcego, które nieodwołalną decyzją podmiotu zostały przeznaczone do celów innych niż spożycie przez ludzi, stanowią UPPZ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pl-PL" sz="1600" spc="-1" strike="noStrike">
                <a:solidFill>
                  <a:srgbClr val="000000"/>
                </a:solidFill>
                <a:latin typeface="Century Gothic"/>
              </a:rPr>
              <a:t>Zarówno dokumentacja jak i transport takich produktów powinny być zgodne z zasadami określonymi w rozporządzeniu (WE) nr 1069/2009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pl-PL" sz="1600" spc="-1" strike="noStrike">
                <a:solidFill>
                  <a:srgbClr val="000000"/>
                </a:solidFill>
                <a:latin typeface="Century Gothic"/>
              </a:rPr>
              <a:t>Produkty te przewożone są środkami transportu zarejestrowanymi przez IW do przewozu UPPZ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pl-PL" sz="1600" spc="-1" strike="noStrike">
                <a:solidFill>
                  <a:srgbClr val="000000"/>
                </a:solidFill>
                <a:latin typeface="Century Gothic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pl-PL" sz="1600" spc="-1" strike="noStrike">
                <a:solidFill>
                  <a:srgbClr val="000000"/>
                </a:solidFill>
                <a:latin typeface="Century Gothic"/>
              </a:rPr>
              <a:t>Reasumując, produktom pochodzenia zwierzęcego przewożonym z zakładów sektora spożywczego do zakładów sektora utylizacyjnego, powinien zawsze towarzyszyć dokument handlowy wydany zgodnie z prawem utylizacyjnym a nie prawem żywnościowym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TextBox 1"/>
          <p:cNvSpPr/>
          <p:nvPr/>
        </p:nvSpPr>
        <p:spPr>
          <a:xfrm>
            <a:off x="324000" y="260280"/>
            <a:ext cx="8424720" cy="64260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Century Gothic"/>
                <a:ea typeface="Arial"/>
              </a:rPr>
              <a:t>Tema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2"/>
          <p:cNvSpPr/>
          <p:nvPr/>
        </p:nvSpPr>
        <p:spPr>
          <a:xfrm>
            <a:off x="324000" y="1125360"/>
            <a:ext cx="8332560" cy="522936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80000"/>
              </a:lnSpc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d9d9d9"/>
                </a:solidFill>
                <a:latin typeface="Century Gothic"/>
                <a:ea typeface="Arial"/>
              </a:rPr>
              <a:t>Nowe zasady eksportu PAP do krajów trzeci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d9d9d9"/>
                </a:solidFill>
                <a:latin typeface="Century Gothic"/>
                <a:ea typeface="Arial"/>
              </a:rPr>
              <a:t>Urzędowe badania laboratoryjne produktów z krwi (ML, PC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d9d9d9"/>
                </a:solidFill>
                <a:latin typeface="Century Gothic"/>
                <a:ea typeface="Arial"/>
              </a:rPr>
              <a:t>Dane produkcyjne UPPZ i wykorzystanie P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d9d9d9"/>
                </a:solidFill>
                <a:latin typeface="Century Gothic"/>
                <a:ea typeface="Arial"/>
              </a:rPr>
              <a:t>Kontrole podmiotów sektora utylizacyjne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d9d9d9"/>
                </a:solidFill>
                <a:latin typeface="Century Gothic"/>
                <a:ea typeface="Arial"/>
              </a:rPr>
              <a:t>Zmiana częstotliwości oraz modelu kontroli – kontrola UPPZ w rzeźni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d9d9d9"/>
                </a:solidFill>
                <a:latin typeface="Century Gothic"/>
                <a:ea typeface="Arial"/>
              </a:rPr>
              <a:t>Dokumenty handlowe w transporcie UPPZ/PP - wzór D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d9d9d9"/>
                </a:solidFill>
                <a:latin typeface="Century Gothic"/>
                <a:ea typeface="Arial"/>
              </a:rPr>
              <a:t>     </a:t>
            </a:r>
            <a:r>
              <a:rPr b="0" lang="pl-PL" sz="1800" spc="-1" strike="noStrike">
                <a:solidFill>
                  <a:srgbClr val="d9d9d9"/>
                </a:solidFill>
                <a:latin typeface="Century Gothic"/>
                <a:ea typeface="Arial"/>
              </a:rPr>
              <a:t>oraz produkty spożywcze przekwalifikowane do utylizacji</a:t>
            </a:r>
            <a:br>
              <a:rPr sz="1800"/>
            </a:br>
            <a:r>
              <a:rPr b="0" lang="pl-PL" sz="1800" spc="-1" strike="noStrike">
                <a:solidFill>
                  <a:srgbClr val="d9d9d9"/>
                </a:solidFill>
                <a:latin typeface="Century Gothic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Handel UPPZ między zakładami przetwórczy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d9d9d9"/>
                </a:solidFill>
                <a:latin typeface="Century Gothic"/>
                <a:ea typeface="Arial"/>
              </a:rPr>
              <a:t>Aktualna sytuacja wykrywania nielegalnego stosowania mącz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d9d9d9"/>
                </a:solidFill>
                <a:latin typeface="Century Gothic"/>
                <a:ea typeface="Arial"/>
              </a:rPr>
              <a:t>Elektroniczny Rejestr Podmiotów Sektora Utylizacyjneg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d9d9d9"/>
                </a:solidFill>
                <a:latin typeface="Century Gothic"/>
                <a:ea typeface="Arial"/>
              </a:rPr>
              <a:t>TR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4" descr="IN00537_[1]"/>
          <p:cNvPicPr/>
          <p:nvPr/>
        </p:nvPicPr>
        <p:blipFill>
          <a:blip r:embed="rId1"/>
          <a:stretch/>
        </p:blipFill>
        <p:spPr>
          <a:xfrm>
            <a:off x="6143760" y="3857760"/>
            <a:ext cx="2374920" cy="148428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4" descr="IN00537_[1]"/>
          <p:cNvPicPr/>
          <p:nvPr/>
        </p:nvPicPr>
        <p:blipFill>
          <a:blip r:embed="rId2"/>
          <a:stretch/>
        </p:blipFill>
        <p:spPr>
          <a:xfrm>
            <a:off x="357120" y="4500720"/>
            <a:ext cx="2374920" cy="148428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2" descr="http://cdns2.freepik.com/darmowe-zdjecie/industrial-clipart-budowlane_424752.jpg"/>
          <p:cNvPicPr/>
          <p:nvPr/>
        </p:nvPicPr>
        <p:blipFill>
          <a:blip r:embed="rId3"/>
          <a:stretch/>
        </p:blipFill>
        <p:spPr>
          <a:xfrm>
            <a:off x="3643200" y="571680"/>
            <a:ext cx="1500480" cy="1285560"/>
          </a:xfrm>
          <a:prstGeom prst="rect">
            <a:avLst/>
          </a:prstGeom>
          <a:ln w="9360">
            <a:solidFill>
              <a:srgbClr val="000000"/>
            </a:solidFill>
            <a:prstDash val="sysDot"/>
            <a:miter/>
          </a:ln>
        </p:spPr>
      </p:pic>
      <p:sp>
        <p:nvSpPr>
          <p:cNvPr id="212" name="pole tekstowe 4"/>
          <p:cNvSpPr/>
          <p:nvPr/>
        </p:nvSpPr>
        <p:spPr>
          <a:xfrm>
            <a:off x="5290200" y="1071720"/>
            <a:ext cx="96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  <a:ea typeface="Arial"/>
              </a:rPr>
              <a:t>RZEŹN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3" name="Łącznik zakrzywiony 7"/>
          <p:cNvCxnSpPr/>
          <p:nvPr/>
        </p:nvCxnSpPr>
        <p:spPr>
          <a:xfrm>
            <a:off x="2700360" y="3860640"/>
            <a:ext cx="3944160" cy="783360"/>
          </a:xfrm>
          <a:prstGeom prst="curvedConnector5">
            <a:avLst>
              <a:gd name="adj1" fmla="val 49995"/>
              <a:gd name="adj2" fmla="val 49977"/>
              <a:gd name="adj3" fmla="val 49995"/>
            </a:avLst>
          </a:prstGeom>
          <a:ln w="381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4" name="pole tekstowe 10"/>
          <p:cNvSpPr/>
          <p:nvPr/>
        </p:nvSpPr>
        <p:spPr>
          <a:xfrm>
            <a:off x="2509920" y="5572080"/>
            <a:ext cx="251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  <a:ea typeface="Arial"/>
              </a:rPr>
              <a:t>ZAKŁAD PRZETWÓRCZY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ole tekstowe 11"/>
          <p:cNvSpPr/>
          <p:nvPr/>
        </p:nvSpPr>
        <p:spPr>
          <a:xfrm>
            <a:off x="6619320" y="3500280"/>
            <a:ext cx="251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  <a:ea typeface="Arial"/>
              </a:rPr>
              <a:t>ZAKŁAD PRZETWÓRCZY 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6" name="Łącznik prosty ze strzałką 13"/>
          <p:cNvCxnSpPr/>
          <p:nvPr/>
        </p:nvCxnSpPr>
        <p:spPr>
          <a:xfrm flipH="1">
            <a:off x="1571040" y="1714680"/>
            <a:ext cx="1929240" cy="2715120"/>
          </a:xfrm>
          <a:prstGeom prst="straightConnector1">
            <a:avLst/>
          </a:prstGeom>
          <a:ln w="381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217" name="Łącznik prosty ze strzałką 23"/>
          <p:cNvCxnSpPr/>
          <p:nvPr/>
        </p:nvCxnSpPr>
        <p:spPr>
          <a:xfrm flipH="1">
            <a:off x="2714040" y="1785600"/>
            <a:ext cx="1215000" cy="2072520"/>
          </a:xfrm>
          <a:prstGeom prst="straightConnector1">
            <a:avLst/>
          </a:prstGeom>
          <a:ln w="38160">
            <a:solidFill>
              <a:srgbClr val="4a7ebb"/>
            </a:solidFill>
            <a:prstDash val="sysDot"/>
            <a:miter/>
            <a:headEnd len="med" type="arrow" w="med"/>
            <a:tailEnd len="med" type="arrow" w="med"/>
          </a:ln>
        </p:spPr>
      </p:cxnSp>
      <p:sp>
        <p:nvSpPr>
          <p:cNvPr id="218" name="Łącznik prosty 28"/>
          <p:cNvSpPr/>
          <p:nvPr/>
        </p:nvSpPr>
        <p:spPr>
          <a:xfrm>
            <a:off x="500040" y="500040"/>
            <a:ext cx="7643880" cy="557208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Łącznik prosty 31"/>
          <p:cNvSpPr/>
          <p:nvPr/>
        </p:nvSpPr>
        <p:spPr>
          <a:xfrm flipV="1">
            <a:off x="785880" y="500040"/>
            <a:ext cx="7286400" cy="557208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ytuł 1"/>
          <p:cNvSpPr/>
          <p:nvPr/>
        </p:nvSpPr>
        <p:spPr>
          <a:xfrm>
            <a:off x="468360" y="0"/>
            <a:ext cx="8190000" cy="287280"/>
          </a:xfrm>
          <a:prstGeom prst="rect">
            <a:avLst/>
          </a:prstGeom>
          <a:solidFill>
            <a:srgbClr val="ffffff"/>
          </a:solidFill>
          <a:ln w="324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Handel surowcem miedzy zakładami przetwórczym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34" descr=""/>
          <p:cNvPicPr/>
          <p:nvPr/>
        </p:nvPicPr>
        <p:blipFill>
          <a:blip r:embed="rId4"/>
          <a:stretch/>
        </p:blipFill>
        <p:spPr>
          <a:xfrm>
            <a:off x="2700360" y="2205000"/>
            <a:ext cx="1008000" cy="1297080"/>
          </a:xfrm>
          <a:prstGeom prst="rect">
            <a:avLst/>
          </a:prstGeom>
          <a:ln w="0">
            <a:noFill/>
          </a:ln>
        </p:spPr>
      </p:pic>
      <p:sp>
        <p:nvSpPr>
          <p:cNvPr id="222" name="Rectangle 40"/>
          <p:cNvSpPr/>
          <p:nvPr/>
        </p:nvSpPr>
        <p:spPr>
          <a:xfrm>
            <a:off x="2771640" y="2421000"/>
            <a:ext cx="801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entury Gothic"/>
              </a:rPr>
              <a:t>Dokume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pl-PL" sz="800" spc="-1" strike="noStrike">
                <a:solidFill>
                  <a:srgbClr val="000000"/>
                </a:solidFill>
                <a:latin typeface="Century Gothic"/>
              </a:rPr>
              <a:t>Handlow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entury Gothic"/>
              </a:rPr>
              <a:t>do ZP X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3" name="Łącznik łamany 20"/>
          <p:cNvCxnSpPr/>
          <p:nvPr/>
        </p:nvCxnSpPr>
        <p:spPr>
          <a:xfrm>
            <a:off x="3203640" y="3500280"/>
            <a:ext cx="915120" cy="915120"/>
          </a:xfrm>
          <a:prstGeom prst="bentConnector3">
            <a:avLst>
              <a:gd name="adj1" fmla="val 49980"/>
            </a:avLst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pic>
        <p:nvPicPr>
          <p:cNvPr id="224" name="Picture 34" descr=""/>
          <p:cNvPicPr/>
          <p:nvPr/>
        </p:nvPicPr>
        <p:blipFill>
          <a:blip r:embed="rId5"/>
          <a:stretch/>
        </p:blipFill>
        <p:spPr>
          <a:xfrm>
            <a:off x="4067280" y="4076640"/>
            <a:ext cx="1009440" cy="1297080"/>
          </a:xfrm>
          <a:prstGeom prst="rect">
            <a:avLst/>
          </a:prstGeom>
          <a:ln w="0">
            <a:noFill/>
          </a:ln>
        </p:spPr>
      </p:pic>
      <p:sp>
        <p:nvSpPr>
          <p:cNvPr id="225" name="Rectangle 40"/>
          <p:cNvSpPr/>
          <p:nvPr/>
        </p:nvSpPr>
        <p:spPr>
          <a:xfrm>
            <a:off x="4140360" y="4221000"/>
            <a:ext cx="801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entury Gothic"/>
              </a:rPr>
              <a:t>Dokume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pl-PL" sz="800" spc="-1" strike="noStrike">
                <a:solidFill>
                  <a:srgbClr val="000000"/>
                </a:solidFill>
                <a:latin typeface="Century Gothic"/>
              </a:rPr>
              <a:t>Handlow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entury Gothic"/>
              </a:rPr>
              <a:t>do ZP 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3" descr=""/>
          <p:cNvPicPr/>
          <p:nvPr/>
        </p:nvPicPr>
        <p:blipFill>
          <a:blip r:embed="rId6"/>
          <a:stretch/>
        </p:blipFill>
        <p:spPr>
          <a:xfrm rot="18266400">
            <a:off x="1633320" y="2638080"/>
            <a:ext cx="723960" cy="74592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3" descr=""/>
          <p:cNvPicPr/>
          <p:nvPr/>
        </p:nvPicPr>
        <p:blipFill>
          <a:blip r:embed="rId7"/>
          <a:stretch/>
        </p:blipFill>
        <p:spPr>
          <a:xfrm rot="2129400">
            <a:off x="3136680" y="3209400"/>
            <a:ext cx="723600" cy="746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3240">
            <a:solidFill>
              <a:srgbClr val="4f81bd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entury Gothic"/>
              </a:rPr>
              <a:t>Handel surowcem miedzy zakładami przetwórczym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1600200"/>
            <a:ext cx="8229600" cy="3989520"/>
          </a:xfrm>
          <a:prstGeom prst="rect">
            <a:avLst/>
          </a:prstGeom>
          <a:noFill/>
          <a:ln w="9360">
            <a:solidFill>
              <a:srgbClr val="0070c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Century Gothic"/>
              </a:rPr>
              <a:t>Wykorzystanie zatwierdzonego zakładu przetwórczego niezgodnie z jego przeznaczeniem – definicja z R 1069/2009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Century Gothic"/>
              </a:rPr>
              <a:t>	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Century Gothic"/>
              </a:rPr>
              <a:t>Zaburzone śledzenie przesyłek UPPZ z rzeźni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Century Gothic"/>
              </a:rPr>
              <a:t>Trudności w identyfikacji produktu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Century Gothic"/>
              </a:rPr>
              <a:t>Trudności z bilansowaniu surowca przyjętego do zakładów przetwórczych, w stosunku do wysyłanego produktu gotowego, ponieważ ten sam surowiec widniałby w dokumentacji dwóch zakładów przetwórczych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pl-PL" sz="1100" spc="-1" strike="noStrike">
                <a:solidFill>
                  <a:srgbClr val="000000"/>
                </a:solidFill>
                <a:latin typeface="Century Gothic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rostokąt 3"/>
          <p:cNvSpPr/>
          <p:nvPr/>
        </p:nvSpPr>
        <p:spPr>
          <a:xfrm>
            <a:off x="755640" y="2276640"/>
            <a:ext cx="7777080" cy="39852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entury Gothic"/>
                <a:ea typeface="Arial"/>
              </a:rPr>
              <a:t>Wykonywanie zatem przez zakład przetwórczy innych czynności, takich jak przewożenie UPPZ między zakładami sektora utylizacyjnego oraz sprzedaż tych surowców, nie powinno być wykonywane w ramach tego zatwierdzen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rostokąt 1"/>
          <p:cNvSpPr/>
          <p:nvPr/>
        </p:nvSpPr>
        <p:spPr>
          <a:xfrm>
            <a:off x="395280" y="260280"/>
            <a:ext cx="8497800" cy="33732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0000"/>
                </a:solidFill>
                <a:latin typeface="Century Gothic"/>
                <a:ea typeface="Arial"/>
              </a:rPr>
              <a:t>DOPUSZCZALNE W PRZYPADKU WYSTĄPIENIA AWARII W ZAKŁADZIE  PRZETWÓRCZY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rostokąt 2"/>
          <p:cNvSpPr/>
          <p:nvPr/>
        </p:nvSpPr>
        <p:spPr>
          <a:xfrm>
            <a:off x="468360" y="1125360"/>
            <a:ext cx="8496360" cy="311148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W sytuacjach szczególnych dopuszcza się możliwość prowadzenia obrotu surowcami. Jedną z takich okoliczności jest awaria linii technologicznej, która uniemożliwia dokonanie obróbki termicznej UPPZ, w warunkach zapobiegających powstaniu zagrożenia dla zdrowia ludzi i zwierzą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W takim przypadku możliwym jest przewiezienie surowca do innego zakładu przetwórczego, właściwej kategorii. Podmiot powinien zaopatrzyć przesyłkę w dokument handlowy. Ponadto powinny zostać zachowane procedury dotyczące identyfikacji oraz warunków transportu uppz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W/w czynności muszą odbywać się za wiedzą i zgodą właściwego terytorialnie powiatowego lekarza weterynari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2" descr="http://cdns2.freepik.com/darmowe-zdjecie/industrial-clipart-budowlane_424752.jpg"/>
          <p:cNvPicPr/>
          <p:nvPr/>
        </p:nvPicPr>
        <p:blipFill>
          <a:blip r:embed="rId1"/>
          <a:stretch/>
        </p:blipFill>
        <p:spPr>
          <a:xfrm>
            <a:off x="2556000" y="4797360"/>
            <a:ext cx="720720" cy="576360"/>
          </a:xfrm>
          <a:prstGeom prst="rect">
            <a:avLst/>
          </a:prstGeom>
          <a:ln w="9360">
            <a:solidFill>
              <a:srgbClr val="000000"/>
            </a:solidFill>
            <a:prstDash val="sysDot"/>
            <a:miter/>
          </a:ln>
        </p:spPr>
      </p:pic>
      <p:pic>
        <p:nvPicPr>
          <p:cNvPr id="234" name="Picture 4" descr="IN00537_[1]"/>
          <p:cNvPicPr/>
          <p:nvPr/>
        </p:nvPicPr>
        <p:blipFill>
          <a:blip r:embed="rId2"/>
          <a:stretch/>
        </p:blipFill>
        <p:spPr>
          <a:xfrm>
            <a:off x="971640" y="5661000"/>
            <a:ext cx="1119240" cy="61128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4" descr="IN00537_[1]"/>
          <p:cNvPicPr/>
          <p:nvPr/>
        </p:nvPicPr>
        <p:blipFill>
          <a:blip r:embed="rId3"/>
          <a:stretch/>
        </p:blipFill>
        <p:spPr>
          <a:xfrm>
            <a:off x="4572000" y="5732640"/>
            <a:ext cx="1119240" cy="61272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3" descr=""/>
          <p:cNvPicPr/>
          <p:nvPr/>
        </p:nvPicPr>
        <p:blipFill>
          <a:blip r:embed="rId4"/>
          <a:stretch/>
        </p:blipFill>
        <p:spPr>
          <a:xfrm rot="19035000">
            <a:off x="1724040" y="5331960"/>
            <a:ext cx="401760" cy="28908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3" descr=""/>
          <p:cNvPicPr/>
          <p:nvPr/>
        </p:nvPicPr>
        <p:blipFill>
          <a:blip r:embed="rId5"/>
          <a:stretch/>
        </p:blipFill>
        <p:spPr>
          <a:xfrm rot="1729200">
            <a:off x="3897000" y="5308560"/>
            <a:ext cx="401760" cy="289080"/>
          </a:xfrm>
          <a:prstGeom prst="rect">
            <a:avLst/>
          </a:prstGeom>
          <a:ln w="0">
            <a:noFill/>
          </a:ln>
        </p:spPr>
      </p:pic>
      <p:sp>
        <p:nvSpPr>
          <p:cNvPr id="238" name="pole tekstowe 18"/>
          <p:cNvSpPr/>
          <p:nvPr/>
        </p:nvSpPr>
        <p:spPr>
          <a:xfrm>
            <a:off x="2124000" y="5589720"/>
            <a:ext cx="1943280" cy="520200"/>
          </a:xfrm>
          <a:prstGeom prst="rect">
            <a:avLst/>
          </a:prstGeom>
          <a:noFill/>
          <a:ln w="9360">
            <a:solidFill>
              <a:srgbClr val="dce6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HACC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POWIADOMIENIE PL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ole tekstowe 19"/>
          <p:cNvSpPr/>
          <p:nvPr/>
        </p:nvSpPr>
        <p:spPr>
          <a:xfrm>
            <a:off x="895680" y="5661000"/>
            <a:ext cx="114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0000"/>
                </a:solidFill>
                <a:latin typeface="Calibri"/>
                <a:ea typeface="Arial"/>
              </a:rPr>
              <a:t>!AWARIA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0" name="Łącznik prosty ze strzałką 26"/>
          <p:cNvCxnSpPr/>
          <p:nvPr/>
        </p:nvCxnSpPr>
        <p:spPr>
          <a:xfrm flipV="1">
            <a:off x="1979280" y="5373000"/>
            <a:ext cx="577080" cy="432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241" name="Łącznik prosty ze strzałką 29"/>
          <p:cNvCxnSpPr/>
          <p:nvPr/>
        </p:nvCxnSpPr>
        <p:spPr>
          <a:xfrm>
            <a:off x="3419640" y="5373720"/>
            <a:ext cx="1072080" cy="567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242" name="Łącznik prosty ze strzałką 32"/>
          <p:cNvCxnSpPr/>
          <p:nvPr/>
        </p:nvCxnSpPr>
        <p:spPr>
          <a:xfrm>
            <a:off x="2195280" y="6092640"/>
            <a:ext cx="216108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TextBox 1"/>
          <p:cNvSpPr/>
          <p:nvPr/>
        </p:nvSpPr>
        <p:spPr>
          <a:xfrm>
            <a:off x="324000" y="260280"/>
            <a:ext cx="8424720" cy="64260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Century Gothic"/>
                <a:ea typeface="Arial"/>
              </a:rPr>
              <a:t>Tema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Box 2"/>
          <p:cNvSpPr/>
          <p:nvPr/>
        </p:nvSpPr>
        <p:spPr>
          <a:xfrm>
            <a:off x="324000" y="1125360"/>
            <a:ext cx="8332560" cy="522936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80000"/>
              </a:lnSpc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d9d9d9"/>
                </a:solidFill>
                <a:latin typeface="Century Gothic"/>
                <a:ea typeface="Arial"/>
              </a:rPr>
              <a:t>Nowe zasady eksportu PAP do krajów trzeci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d9d9d9"/>
                </a:solidFill>
                <a:latin typeface="Century Gothic"/>
                <a:ea typeface="Arial"/>
              </a:rPr>
              <a:t>Urzędowe badania laboratoryjne produktów z krwi (ML, PC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d9d9d9"/>
                </a:solidFill>
                <a:latin typeface="Century Gothic"/>
                <a:ea typeface="Arial"/>
              </a:rPr>
              <a:t>Dane produkcyjne UPPZ i wykorzystanie P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d9d9d9"/>
                </a:solidFill>
                <a:latin typeface="Century Gothic"/>
                <a:ea typeface="Arial"/>
              </a:rPr>
              <a:t>Kontrole podmiotów sektora utylizacyjne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d9d9d9"/>
                </a:solidFill>
                <a:latin typeface="Century Gothic"/>
                <a:ea typeface="Arial"/>
              </a:rPr>
              <a:t>Zmiana częstotliwości oraz modelu kontroli – kontrola UPPZ w rzeźni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d9d9d9"/>
                </a:solidFill>
                <a:latin typeface="Century Gothic"/>
                <a:ea typeface="Arial"/>
              </a:rPr>
              <a:t>Dokumenty handlowe w transporcie UPPZ/PP - wzór D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d9d9d9"/>
                </a:solidFill>
                <a:latin typeface="Century Gothic"/>
                <a:ea typeface="Arial"/>
              </a:rPr>
              <a:t>     </a:t>
            </a:r>
            <a:r>
              <a:rPr b="0" lang="pl-PL" sz="1800" spc="-1" strike="noStrike">
                <a:solidFill>
                  <a:srgbClr val="d9d9d9"/>
                </a:solidFill>
                <a:latin typeface="Century Gothic"/>
                <a:ea typeface="Arial"/>
              </a:rPr>
              <a:t>oraz produkty spożywcze przekwalifikowane do utylizacji</a:t>
            </a:r>
            <a:br>
              <a:rPr sz="1800"/>
            </a:br>
            <a:r>
              <a:rPr b="0" lang="pl-PL" sz="1800" spc="-1" strike="noStrike">
                <a:solidFill>
                  <a:srgbClr val="d9d9d9"/>
                </a:solidFill>
                <a:latin typeface="Century Gothic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d9d9d9"/>
                </a:solidFill>
                <a:latin typeface="Century Gothic"/>
                <a:ea typeface="Arial"/>
              </a:rPr>
              <a:t>Handel UPPZ między zakładami przetwórczy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Aktualna sytuacja wykrywania nielegalnego stosowania mącz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d9d9d9"/>
                </a:solidFill>
                <a:latin typeface="Century Gothic"/>
                <a:ea typeface="Arial"/>
              </a:rPr>
              <a:t>Elektroniczny Rejestr Podmiotów Sektora Utylizacyjneg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d9d9d9"/>
                </a:solidFill>
                <a:latin typeface="Century Gothic"/>
                <a:ea typeface="Arial"/>
              </a:rPr>
              <a:t>TR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95280" y="620640"/>
            <a:ext cx="8229600" cy="93672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entury Gothic"/>
              </a:rPr>
              <a:t>AKTUALNA SYTUACJA W ZAKRESIE WYKRYWANIA NIELEGALNYCH PRZYPADKÓW STOSOWANIA MĄCZEK MIĘSNO – KOSTNYCH W ŻYWIENIU ZWIERZAT GOSPODARSKIC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95280" y="2060640"/>
            <a:ext cx="8229600" cy="3201840"/>
          </a:xfrm>
          <a:prstGeom prst="rect">
            <a:avLst/>
          </a:prstGeom>
          <a:noFill/>
          <a:ln w="9360">
            <a:solidFill>
              <a:srgbClr val="c6d9f1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pl-PL" sz="1900" spc="-1" strike="noStrike">
                <a:solidFill>
                  <a:srgbClr val="000000"/>
                </a:solidFill>
                <a:latin typeface="Century Gothic"/>
              </a:rPr>
              <a:t>W roku 2015 na terenie Polski </a:t>
            </a:r>
            <a:r>
              <a:rPr b="1" lang="pl-PL" sz="1900" spc="-1" strike="noStrike" u="sng">
                <a:solidFill>
                  <a:srgbClr val="000000"/>
                </a:solidFill>
                <a:uFillTx/>
                <a:latin typeface="Century Gothic"/>
              </a:rPr>
              <a:t>stwierdzono 4 przypadki</a:t>
            </a:r>
            <a:r>
              <a:rPr b="0" lang="pl-PL" sz="1900" spc="-1" strike="noStrike">
                <a:solidFill>
                  <a:srgbClr val="000000"/>
                </a:solidFill>
                <a:latin typeface="Century Gothic"/>
              </a:rPr>
              <a:t> wykrycia w paszy niedozwolonych białek pochodzenia zwierzęcego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pl-PL" sz="1900" spc="-1" strike="noStrike">
                <a:solidFill>
                  <a:srgbClr val="000000"/>
                </a:solidFill>
                <a:latin typeface="Century Gothic"/>
              </a:rPr>
              <a:t>Przypadki stwierdzenia żywienia zwierząt mączkami mięsno – kostnymi  miały miejsce na terenie następujących województw:</a:t>
            </a:r>
            <a:br>
              <a:rPr sz="1900"/>
            </a:b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entury Gothic"/>
              </a:rPr>
              <a:t>kujawsko – pomorskie(trzoda chlewna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entury Gothic"/>
              </a:rPr>
              <a:t>podkarpackie(trzoda chlewna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entury Gothic"/>
              </a:rPr>
              <a:t>warmińsko – mazurskie (trzoda chlewna)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entury Gothic"/>
              </a:rPr>
              <a:t>zachodniopomorskie (trzoda chlewna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c6d9f1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600" spc="-1" strike="noStrike">
                <a:solidFill>
                  <a:srgbClr val="7030a0"/>
                </a:solidFill>
                <a:latin typeface="Century Gothic"/>
                <a:ea typeface="Arial"/>
              </a:rPr>
              <a:t>Obecnie możliwy jest eksport PAP z Polski do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entury Gothic"/>
                <a:ea typeface="Arial"/>
              </a:rPr>
              <a:t>Wietnamu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entury Gothic"/>
                <a:ea typeface="Arial"/>
              </a:rPr>
              <a:t>Bangladesz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entury Gothic"/>
                <a:ea typeface="Arial"/>
              </a:rPr>
              <a:t>Tajlandii (audyt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entury Gothic"/>
                <a:ea typeface="Arial"/>
              </a:rPr>
              <a:t>Ukrain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entury Gothic"/>
                <a:ea typeface="Arial"/>
              </a:rPr>
              <a:t>Rosji (audyt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entury Gothic"/>
                <a:ea typeface="Arial"/>
              </a:rPr>
              <a:t>Mołdawi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entury Gothic"/>
                <a:ea typeface="Arial"/>
              </a:rPr>
              <a:t>Azerbejdżan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entury Gothic"/>
                <a:ea typeface="Arial"/>
              </a:rPr>
              <a:t>Kirgistanu oraz Uzbekistanu (pozwolenia indywidualn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entury Gothic"/>
                <a:ea typeface="Arial"/>
              </a:rPr>
              <a:t>Turcji (z przeznaczeniem do produkcji pet foo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entury Gothic"/>
                <a:ea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entury Gothic"/>
                <a:ea typeface="Arial"/>
              </a:rPr>
              <a:t>   </a:t>
            </a:r>
            <a:r>
              <a:rPr b="1" lang="pl-PL" sz="2400" spc="-1" strike="noStrike">
                <a:solidFill>
                  <a:srgbClr val="000000"/>
                </a:solidFill>
                <a:latin typeface="Century Gothic"/>
                <a:ea typeface="Arial"/>
              </a:rPr>
              <a:t>W roku 2014 wyeksportowano z PL do krajów trzecich</a:t>
            </a:r>
            <a:r>
              <a:rPr b="1" lang="pl-PL" sz="2400" spc="-1" strike="noStrike">
                <a:solidFill>
                  <a:srgbClr val="ff0000"/>
                </a:solidFill>
                <a:latin typeface="Century Gothic"/>
                <a:ea typeface="Arial"/>
              </a:rPr>
              <a:t> ponad 61 tys. ton PA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9" name="Picture 4" descr="administracyjny16"/>
          <p:cNvPicPr/>
          <p:nvPr/>
        </p:nvPicPr>
        <p:blipFill>
          <a:blip r:embed="rId1"/>
          <a:stretch/>
        </p:blipFill>
        <p:spPr>
          <a:xfrm>
            <a:off x="468360" y="260280"/>
            <a:ext cx="8316720" cy="5832720"/>
          </a:xfrm>
          <a:prstGeom prst="rect">
            <a:avLst/>
          </a:prstGeom>
          <a:ln w="0">
            <a:noFill/>
          </a:ln>
        </p:spPr>
      </p:pic>
      <p:sp>
        <p:nvSpPr>
          <p:cNvPr id="250" name="Line 40"/>
          <p:cNvSpPr/>
          <p:nvPr/>
        </p:nvSpPr>
        <p:spPr>
          <a:xfrm>
            <a:off x="7093080" y="5445000"/>
            <a:ext cx="100620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AutoShape 42"/>
          <p:cNvSpPr/>
          <p:nvPr/>
        </p:nvSpPr>
        <p:spPr>
          <a:xfrm>
            <a:off x="6875640" y="5229360"/>
            <a:ext cx="447480" cy="457200"/>
          </a:xfrm>
          <a:custGeom>
            <a:avLst/>
            <a:gdLst/>
            <a:ahLst/>
            <a:rect l="l" t="t" r="r" b="b"/>
            <a:pathLst>
              <a:path w="447675" h="457200">
                <a:moveTo>
                  <a:pt x="0" y="174634"/>
                </a:moveTo>
                <a:lnTo>
                  <a:pt x="170998" y="174636"/>
                </a:lnTo>
                <a:lnTo>
                  <a:pt x="223838" y="0"/>
                </a:lnTo>
                <a:lnTo>
                  <a:pt x="276677" y="174636"/>
                </a:lnTo>
                <a:lnTo>
                  <a:pt x="447675" y="174634"/>
                </a:lnTo>
                <a:lnTo>
                  <a:pt x="309334" y="282564"/>
                </a:lnTo>
                <a:lnTo>
                  <a:pt x="362176" y="457199"/>
                </a:lnTo>
                <a:lnTo>
                  <a:pt x="223838" y="349267"/>
                </a:lnTo>
                <a:lnTo>
                  <a:pt x="85499" y="457199"/>
                </a:lnTo>
                <a:lnTo>
                  <a:pt x="138341" y="282564"/>
                </a:lnTo>
                <a:lnTo>
                  <a:pt x="0" y="174634"/>
                </a:lnTo>
                <a:close/>
              </a:path>
            </a:pathLst>
          </a:cu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43"/>
          <p:cNvSpPr/>
          <p:nvPr/>
        </p:nvSpPr>
        <p:spPr>
          <a:xfrm>
            <a:off x="7596360" y="5661000"/>
            <a:ext cx="1331640" cy="71928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Lesk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AutoShape 48"/>
          <p:cNvSpPr/>
          <p:nvPr/>
        </p:nvSpPr>
        <p:spPr>
          <a:xfrm>
            <a:off x="3276720" y="1484280"/>
            <a:ext cx="482400" cy="457200"/>
          </a:xfrm>
          <a:custGeom>
            <a:avLst/>
            <a:gdLst/>
            <a:ahLst/>
            <a:rect l="l" t="t" r="r" b="b"/>
            <a:pathLst>
              <a:path w="482600" h="457200">
                <a:moveTo>
                  <a:pt x="1" y="174634"/>
                </a:moveTo>
                <a:lnTo>
                  <a:pt x="184338" y="174636"/>
                </a:lnTo>
                <a:lnTo>
                  <a:pt x="241300" y="0"/>
                </a:lnTo>
                <a:lnTo>
                  <a:pt x="298262" y="174636"/>
                </a:lnTo>
                <a:lnTo>
                  <a:pt x="482599" y="174634"/>
                </a:lnTo>
                <a:lnTo>
                  <a:pt x="333467" y="282564"/>
                </a:lnTo>
                <a:lnTo>
                  <a:pt x="390431" y="457199"/>
                </a:lnTo>
                <a:lnTo>
                  <a:pt x="241300" y="349267"/>
                </a:lnTo>
                <a:lnTo>
                  <a:pt x="92169" y="457199"/>
                </a:lnTo>
                <a:lnTo>
                  <a:pt x="149133" y="282564"/>
                </a:lnTo>
                <a:lnTo>
                  <a:pt x="1" y="174634"/>
                </a:lnTo>
                <a:close/>
              </a:path>
            </a:pathLst>
          </a:cu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51"/>
          <p:cNvSpPr/>
          <p:nvPr/>
        </p:nvSpPr>
        <p:spPr>
          <a:xfrm flipH="1">
            <a:off x="1618920" y="1916280"/>
            <a:ext cx="1873080" cy="331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56"/>
          <p:cNvSpPr/>
          <p:nvPr/>
        </p:nvSpPr>
        <p:spPr>
          <a:xfrm>
            <a:off x="468360" y="5300640"/>
            <a:ext cx="1944720" cy="71928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Tuchol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56"/>
          <p:cNvSpPr/>
          <p:nvPr/>
        </p:nvSpPr>
        <p:spPr>
          <a:xfrm>
            <a:off x="395280" y="333360"/>
            <a:ext cx="1584360" cy="71928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Białog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AutoShape 48"/>
          <p:cNvSpPr/>
          <p:nvPr/>
        </p:nvSpPr>
        <p:spPr>
          <a:xfrm>
            <a:off x="1692360" y="1052640"/>
            <a:ext cx="482400" cy="457200"/>
          </a:xfrm>
          <a:custGeom>
            <a:avLst/>
            <a:gdLst/>
            <a:ahLst/>
            <a:rect l="l" t="t" r="r" b="b"/>
            <a:pathLst>
              <a:path w="482600" h="457200">
                <a:moveTo>
                  <a:pt x="1" y="174634"/>
                </a:moveTo>
                <a:lnTo>
                  <a:pt x="184338" y="174636"/>
                </a:lnTo>
                <a:lnTo>
                  <a:pt x="241300" y="0"/>
                </a:lnTo>
                <a:lnTo>
                  <a:pt x="298262" y="174636"/>
                </a:lnTo>
                <a:lnTo>
                  <a:pt x="482599" y="174634"/>
                </a:lnTo>
                <a:lnTo>
                  <a:pt x="333467" y="282564"/>
                </a:lnTo>
                <a:lnTo>
                  <a:pt x="390431" y="457199"/>
                </a:lnTo>
                <a:lnTo>
                  <a:pt x="241300" y="349267"/>
                </a:lnTo>
                <a:lnTo>
                  <a:pt x="92169" y="457199"/>
                </a:lnTo>
                <a:lnTo>
                  <a:pt x="149133" y="282564"/>
                </a:lnTo>
                <a:lnTo>
                  <a:pt x="1" y="174634"/>
                </a:lnTo>
                <a:close/>
              </a:path>
            </a:pathLst>
          </a:cu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51"/>
          <p:cNvSpPr/>
          <p:nvPr/>
        </p:nvSpPr>
        <p:spPr>
          <a:xfrm flipH="1" flipV="1">
            <a:off x="1186920" y="980640"/>
            <a:ext cx="79236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54"/>
          <p:cNvSpPr/>
          <p:nvPr/>
        </p:nvSpPr>
        <p:spPr>
          <a:xfrm>
            <a:off x="7020000" y="333360"/>
            <a:ext cx="1368360" cy="71928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Oleck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50"/>
          <p:cNvSpPr/>
          <p:nvPr/>
        </p:nvSpPr>
        <p:spPr>
          <a:xfrm flipV="1">
            <a:off x="6372360" y="907920"/>
            <a:ext cx="64764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AutoShape 42"/>
          <p:cNvSpPr/>
          <p:nvPr/>
        </p:nvSpPr>
        <p:spPr>
          <a:xfrm>
            <a:off x="6084720" y="907920"/>
            <a:ext cx="446400" cy="457200"/>
          </a:xfrm>
          <a:custGeom>
            <a:avLst/>
            <a:gdLst/>
            <a:ahLst/>
            <a:rect l="l" t="t" r="r" b="b"/>
            <a:pathLst>
              <a:path w="446087" h="457200">
                <a:moveTo>
                  <a:pt x="0" y="174634"/>
                </a:moveTo>
                <a:lnTo>
                  <a:pt x="170391" y="174636"/>
                </a:lnTo>
                <a:lnTo>
                  <a:pt x="223044" y="0"/>
                </a:lnTo>
                <a:lnTo>
                  <a:pt x="275696" y="174636"/>
                </a:lnTo>
                <a:lnTo>
                  <a:pt x="446087" y="174634"/>
                </a:lnTo>
                <a:lnTo>
                  <a:pt x="308237" y="282564"/>
                </a:lnTo>
                <a:lnTo>
                  <a:pt x="360892" y="457199"/>
                </a:lnTo>
                <a:lnTo>
                  <a:pt x="223044" y="349267"/>
                </a:lnTo>
                <a:lnTo>
                  <a:pt x="85195" y="457199"/>
                </a:lnTo>
                <a:lnTo>
                  <a:pt x="137850" y="282564"/>
                </a:lnTo>
                <a:lnTo>
                  <a:pt x="0" y="174634"/>
                </a:lnTo>
                <a:close/>
              </a:path>
            </a:pathLst>
          </a:cu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Bookman Old Style"/>
                <a:ea typeface="Arial"/>
              </a:rPr>
              <a:t>Wyniki monitoringu – wykrywanie PAP, sz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3" name="Symbol zastępczy wykresu 3" descr=""/>
          <p:cNvPicPr/>
          <p:nvPr/>
        </p:nvPicPr>
        <p:blipFill>
          <a:blip r:embed="rId1"/>
          <a:stretch/>
        </p:blipFill>
        <p:spPr>
          <a:xfrm>
            <a:off x="395280" y="1341360"/>
            <a:ext cx="8331120" cy="5357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Bookman Old Style"/>
                <a:ea typeface="Arial"/>
              </a:rPr>
              <a:t>Stosunek procentowy liczby próbek niespełniających wymagań w stosunku do ogólnej liczby prób pobranych w zakresie PAP  (%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5" name="Object 2" descr=""/>
          <p:cNvPicPr/>
          <p:nvPr/>
        </p:nvPicPr>
        <p:blipFill>
          <a:blip r:embed="rId1"/>
          <a:stretch/>
        </p:blipFill>
        <p:spPr>
          <a:xfrm>
            <a:off x="812880" y="1700280"/>
            <a:ext cx="8331120" cy="470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2"/>
          <p:cNvSpPr/>
          <p:nvPr/>
        </p:nvSpPr>
        <p:spPr>
          <a:xfrm>
            <a:off x="468360" y="1413000"/>
            <a:ext cx="8229600" cy="295272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entury Gothic"/>
                <a:ea typeface="Arial"/>
              </a:rPr>
              <a:t>We wszystkich czterech przypadkach potwierdzenia obecności niedozwolonych PAP w paszy wydana została decyzja o blokadzie stad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entury Gothic"/>
                <a:ea typeface="Arial"/>
              </a:rPr>
              <a:t>Zgodnie z prawem paszowym, zwierzęta takie nie mogą trafić do łańcucha żywieniowego ludz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Rectangle 3" descr=""/>
          <p:cNvPicPr/>
          <p:nvPr/>
        </p:nvPicPr>
        <p:blipFill>
          <a:blip r:embed="rId1"/>
          <a:stretch/>
        </p:blipFill>
        <p:spPr>
          <a:xfrm>
            <a:off x="390600" y="1908000"/>
            <a:ext cx="8508960" cy="3864240"/>
          </a:xfrm>
          <a:prstGeom prst="rect">
            <a:avLst/>
          </a:prstGeom>
          <a:ln w="0">
            <a:noFill/>
          </a:ln>
        </p:spPr>
      </p:pic>
      <p:sp>
        <p:nvSpPr>
          <p:cNvPr id="268" name="Tytuł 3"/>
          <p:cNvSpPr/>
          <p:nvPr/>
        </p:nvSpPr>
        <p:spPr>
          <a:xfrm>
            <a:off x="539640" y="765000"/>
            <a:ext cx="8229600" cy="1008360"/>
          </a:xfrm>
          <a:prstGeom prst="rect">
            <a:avLst/>
          </a:prstGeom>
          <a:noFill/>
          <a:ln w="9360">
            <a:solidFill>
              <a:srgbClr val="8eb4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entury Gothic"/>
              </a:rPr>
              <a:t>DECYZJE O BLOKADZIE STADA OD 2011 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21" descr=""/>
          <p:cNvPicPr/>
          <p:nvPr/>
        </p:nvPicPr>
        <p:blipFill>
          <a:blip r:embed="rId2"/>
          <a:stretch/>
        </p:blipFill>
        <p:spPr>
          <a:xfrm>
            <a:off x="7740720" y="4149720"/>
            <a:ext cx="1152360" cy="57456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20" descr=""/>
          <p:cNvPicPr/>
          <p:nvPr/>
        </p:nvPicPr>
        <p:blipFill>
          <a:blip r:embed="rId3"/>
          <a:stretch/>
        </p:blipFill>
        <p:spPr>
          <a:xfrm>
            <a:off x="8244000" y="4797360"/>
            <a:ext cx="549000" cy="72720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43" descr=""/>
          <p:cNvPicPr/>
          <p:nvPr/>
        </p:nvPicPr>
        <p:blipFill>
          <a:blip r:embed="rId4"/>
          <a:stretch/>
        </p:blipFill>
        <p:spPr>
          <a:xfrm rot="188400">
            <a:off x="7540560" y="3390840"/>
            <a:ext cx="1243080" cy="644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Rectangle 3" descr=""/>
          <p:cNvPicPr/>
          <p:nvPr/>
        </p:nvPicPr>
        <p:blipFill>
          <a:blip r:embed="rId1"/>
          <a:stretch/>
        </p:blipFill>
        <p:spPr>
          <a:xfrm>
            <a:off x="353880" y="1908000"/>
            <a:ext cx="8545680" cy="3864240"/>
          </a:xfrm>
          <a:prstGeom prst="rect">
            <a:avLst/>
          </a:prstGeom>
          <a:ln w="0">
            <a:noFill/>
          </a:ln>
        </p:spPr>
      </p:pic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8eb4e3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entury Gothic"/>
              </a:rPr>
              <a:t>Na dzień 15.12.2015 r. zablokowanych było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TextBox 2"/>
          <p:cNvSpPr/>
          <p:nvPr/>
        </p:nvSpPr>
        <p:spPr>
          <a:xfrm>
            <a:off x="324000" y="260280"/>
            <a:ext cx="8424720" cy="642600"/>
          </a:xfrm>
          <a:prstGeom prst="rect">
            <a:avLst/>
          </a:prstGeom>
          <a:solidFill>
            <a:srgbClr val="ff0000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Century Gothic"/>
                <a:ea typeface="Arial"/>
              </a:rPr>
              <a:t>Uwag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Symbol zastępczy zawartości 2"/>
          <p:cNvSpPr/>
          <p:nvPr/>
        </p:nvSpPr>
        <p:spPr>
          <a:xfrm>
            <a:off x="336600" y="2349360"/>
            <a:ext cx="8229600" cy="266400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kontroli dokumentów handlowy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kontroli krzyżowych (potwierdzenie dotarcia przesyłki zwierząt do rzeźni/zbiornicy/zakładu utylizacyjnego w tym samym lub innym powiecie/województwi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rostokąt 4"/>
          <p:cNvSpPr/>
          <p:nvPr/>
        </p:nvSpPr>
        <p:spPr>
          <a:xfrm>
            <a:off x="324000" y="1197000"/>
            <a:ext cx="8280360" cy="83376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W przypadku zgłoszenia przekazania zwierząt do uboju i/lub utylizacj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przez właściciela zablokowanego Inspekcja Weterynaryjna dokonuje każdorazow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Rectangle 3" descr=""/>
          <p:cNvPicPr/>
          <p:nvPr/>
        </p:nvPicPr>
        <p:blipFill>
          <a:blip r:embed="rId1"/>
          <a:stretch/>
        </p:blipFill>
        <p:spPr>
          <a:xfrm>
            <a:off x="457200" y="2060640"/>
            <a:ext cx="8236080" cy="202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23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9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79" name=""/>
          <p:cNvGraphicFramePr/>
          <p:nvPr/>
        </p:nvGraphicFramePr>
        <p:xfrm>
          <a:off x="250920" y="115920"/>
          <a:ext cx="8435880" cy="6815160"/>
        </p:xfrm>
        <a:graphic>
          <a:graphicData uri="http://schemas.openxmlformats.org/drawingml/2006/table">
            <a:tbl>
              <a:tblPr/>
              <a:tblGrid>
                <a:gridCol w="1930320"/>
                <a:gridCol w="1444680"/>
                <a:gridCol w="1687320"/>
                <a:gridCol w="1685880"/>
                <a:gridCol w="1687680"/>
              </a:tblGrid>
              <a:tr h="576360"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4bd97"/>
                    </a:solidFill>
                  </a:tcPr>
                </a:tc>
                <a:tc gridSpan="3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WIERZĘTA GOSPODARSKIE (INNE NIŻ ZWIERZĘTA FUTERKOWE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wierzęta domowe oraz futerkow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76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zeżuwac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ne niż przeżuwac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yb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5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Jaja i produkty z jaj, mleko i produkty z mlek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50"/>
                    </a:solidFill>
                  </a:tcPr>
                </a:tc>
              </a:tr>
              <a:tr h="4572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Żelatyna ze zwierząt innych niż przeżuwac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50"/>
                    </a:solidFill>
                  </a:tcPr>
                </a:tc>
              </a:tr>
              <a:tr h="838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Białka hydrolizowane ze zwierząt innych niż przeżuwacze lub ze skór przeżuwacz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50"/>
                    </a:solidFill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Mączka ryb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ylko w preparatach mlekozastępczych dla młodych przeżuwacz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akaz kanibalizm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50"/>
                    </a:solidFill>
                  </a:tcPr>
                </a:tc>
              </a:tr>
              <a:tr h="8222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Fosforan dwu- oraz trójwapniowy pochodzenia zwierzęceg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50"/>
                    </a:solidFill>
                  </a:tcPr>
                </a:tc>
              </a:tr>
              <a:tr h="63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rodukty z krwi ze zwierząt innych niż przeżuwac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50"/>
                    </a:solidFill>
                  </a:tcPr>
                </a:tc>
              </a:tr>
              <a:tr h="4572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Mączka z krwi zwierząt innych niż przeżuwac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50"/>
                    </a:solidFill>
                  </a:tcPr>
                </a:tc>
              </a:tr>
              <a:tr h="479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AP ze zwierząt innych niż przeżuwac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akaz kanibalizm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50"/>
                    </a:solidFill>
                  </a:tcPr>
                </a:tc>
              </a:tr>
              <a:tr h="4572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In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akaz kanibalizm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5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TextBox 1"/>
          <p:cNvSpPr/>
          <p:nvPr/>
        </p:nvSpPr>
        <p:spPr>
          <a:xfrm>
            <a:off x="324000" y="260280"/>
            <a:ext cx="8424720" cy="64260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Century Gothic"/>
                <a:ea typeface="Arial"/>
              </a:rPr>
              <a:t>Tema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Box 2"/>
          <p:cNvSpPr/>
          <p:nvPr/>
        </p:nvSpPr>
        <p:spPr>
          <a:xfrm>
            <a:off x="324000" y="1125360"/>
            <a:ext cx="8332560" cy="522936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80000"/>
              </a:lnSpc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d9d9d9"/>
                </a:solidFill>
                <a:latin typeface="Century Gothic"/>
                <a:ea typeface="Arial"/>
              </a:rPr>
              <a:t>Nowe zasady eksportu PAP do krajów trzeci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d9d9d9"/>
                </a:solidFill>
                <a:latin typeface="Century Gothic"/>
                <a:ea typeface="Arial"/>
              </a:rPr>
              <a:t>Urzędowe badania laboratoryjne produktów z krwi (PC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eeece1"/>
                </a:solidFill>
                <a:latin typeface="Century Gothic"/>
                <a:ea typeface="Arial"/>
              </a:rPr>
              <a:t>Dane produkcyjne UPPZ i wykorzystanie P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d9d9d9"/>
                </a:solidFill>
                <a:latin typeface="Century Gothic"/>
                <a:ea typeface="Arial"/>
              </a:rPr>
              <a:t>Kontrole podmiotów sektora utylizacyjnego w 2015 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d9d9d9"/>
                </a:solidFill>
                <a:latin typeface="Century Gothic"/>
                <a:ea typeface="Arial"/>
              </a:rPr>
              <a:t>Zmiana częstotliwości oraz modelu kontroli – kontrola UPPZ w rzeźni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d9d9d9"/>
                </a:solidFill>
                <a:latin typeface="Century Gothic"/>
                <a:ea typeface="Arial"/>
              </a:rPr>
              <a:t>Dokumenty handlowe w transporcie UPPZ/PP - wzór D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d9d9d9"/>
                </a:solidFill>
                <a:latin typeface="Century Gothic"/>
                <a:ea typeface="Arial"/>
              </a:rPr>
              <a:t>     </a:t>
            </a:r>
            <a:r>
              <a:rPr b="0" lang="pl-PL" sz="1800" spc="-1" strike="noStrike">
                <a:solidFill>
                  <a:srgbClr val="d9d9d9"/>
                </a:solidFill>
                <a:latin typeface="Century Gothic"/>
                <a:ea typeface="Arial"/>
              </a:rPr>
              <a:t>oraz produkty spożywcze przekwalifikowane do utylizacji</a:t>
            </a:r>
            <a:br>
              <a:rPr sz="1800"/>
            </a:br>
            <a:r>
              <a:rPr b="0" lang="pl-PL" sz="1800" spc="-1" strike="noStrike">
                <a:solidFill>
                  <a:srgbClr val="d9d9d9"/>
                </a:solidFill>
                <a:latin typeface="Century Gothic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d9d9d9"/>
                </a:solidFill>
                <a:latin typeface="Century Gothic"/>
                <a:ea typeface="Arial"/>
              </a:rPr>
              <a:t>Handel UPPZ między zakładami przetwórczy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d9d9d9"/>
                </a:solidFill>
                <a:latin typeface="Century Gothic"/>
                <a:ea typeface="Arial"/>
              </a:rPr>
              <a:t>Aktualna sytuacja wykrywania nielegalnego stosowania mącz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Elektroniczny Rejestr Podmiotów Sektora Utylizacyjneg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d9d9d9"/>
                </a:solidFill>
                <a:latin typeface="Century Gothic"/>
                <a:ea typeface="Arial"/>
              </a:rPr>
              <a:t>TR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entury Gothic"/>
                <a:ea typeface="Arial"/>
              </a:rPr>
              <a:t>Zmiany procedur eksportu PAP z krajów członkowskich UE do krajów trzeci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11280" y="1412640"/>
            <a:ext cx="78184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entury Gothic"/>
                <a:ea typeface="Arial"/>
              </a:rPr>
              <a:t>Likwidacja wymogu podpisania umowy bilateralnej z państwem trzecim na wywóz PAP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entury Gothic"/>
                <a:ea typeface="Arial"/>
              </a:rPr>
              <a:t>Wysyłka może się odbywać z zakładu przetwórczego kat. 3 </a:t>
            </a:r>
            <a:r>
              <a:rPr b="0" lang="pl-PL" sz="2000" spc="-1" strike="noStrike">
                <a:solidFill>
                  <a:srgbClr val="ff0000"/>
                </a:solidFill>
                <a:latin typeface="Century Gothic"/>
                <a:ea typeface="Arial"/>
              </a:rPr>
              <a:t>nie przetwarzającego surowca z przeżuwaczy </a:t>
            </a:r>
            <a:r>
              <a:rPr b="0" lang="pl-PL" sz="2000" spc="-1" strike="noStrike">
                <a:solidFill>
                  <a:srgbClr val="000000"/>
                </a:solidFill>
                <a:latin typeface="Century Gothic"/>
                <a:ea typeface="Arial"/>
              </a:rPr>
              <a:t>i pobierającego materiał wyłącznie z zatwierdzonych rzeźni, które </a:t>
            </a:r>
            <a:r>
              <a:rPr b="0" lang="pl-PL" sz="2000" spc="-1" strike="noStrike">
                <a:solidFill>
                  <a:srgbClr val="ff0000"/>
                </a:solidFill>
                <a:latin typeface="Century Gothic"/>
                <a:ea typeface="Arial"/>
              </a:rPr>
              <a:t>nie zajmują się ubojem przeżuwaczy </a:t>
            </a:r>
            <a:r>
              <a:rPr b="0" lang="pl-PL" sz="2000" spc="-1" strike="noStrike">
                <a:solidFill>
                  <a:srgbClr val="000000"/>
                </a:solidFill>
                <a:latin typeface="Century Gothic"/>
                <a:ea typeface="Arial"/>
              </a:rPr>
              <a:t>lub zakładów zatwierdzonych zakładów rozbioru, które nie zajmują się oddzieleniem od kości lub rozbiorem mięsa przeżuwaczy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2"/>
          <p:cNvSpPr/>
          <p:nvPr/>
        </p:nvSpPr>
        <p:spPr>
          <a:xfrm>
            <a:off x="539640" y="692280"/>
            <a:ext cx="7772400" cy="79200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ff"/>
                </a:solidFill>
                <a:latin typeface="Century Gothic"/>
                <a:ea typeface="Arial"/>
              </a:rPr>
              <a:t>Narodowe (unijne) listy zakładów sektora utylizacyjnego w poszczególnych krajach członkowskich 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rostokąt 13"/>
          <p:cNvSpPr/>
          <p:nvPr/>
        </p:nvSpPr>
        <p:spPr>
          <a:xfrm>
            <a:off x="539640" y="1700280"/>
            <a:ext cx="7777440" cy="119124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Strona Internetowa – europejska strona głów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http://ec.europa.eu/food/food/biosafety/establishments/list_abp_en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Picture 2" descr=""/>
          <p:cNvPicPr/>
          <p:nvPr/>
        </p:nvPicPr>
        <p:blipFill>
          <a:blip r:embed="rId1"/>
          <a:stretch/>
        </p:blipFill>
        <p:spPr>
          <a:xfrm>
            <a:off x="539640" y="3141720"/>
            <a:ext cx="7543800" cy="3343320"/>
          </a:xfrm>
          <a:prstGeom prst="rect">
            <a:avLst/>
          </a:prstGeom>
          <a:ln w="0">
            <a:noFill/>
          </a:ln>
        </p:spPr>
      </p:pic>
      <p:sp>
        <p:nvSpPr>
          <p:cNvPr id="285" name="pole tekstowe 6"/>
          <p:cNvSpPr/>
          <p:nvPr/>
        </p:nvSpPr>
        <p:spPr>
          <a:xfrm>
            <a:off x="6805440" y="5013360"/>
            <a:ext cx="22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www.wetgiw.gov.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Strzałka w prawo 7"/>
          <p:cNvSpPr/>
          <p:nvPr/>
        </p:nvSpPr>
        <p:spPr>
          <a:xfrm>
            <a:off x="6156360" y="5157720"/>
            <a:ext cx="503280" cy="142920"/>
          </a:xfrm>
          <a:prstGeom prst="rightArrow">
            <a:avLst>
              <a:gd name="adj1" fmla="val 50000"/>
              <a:gd name="adj2" fmla="val 49984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rostokąt 2"/>
          <p:cNvSpPr/>
          <p:nvPr/>
        </p:nvSpPr>
        <p:spPr>
          <a:xfrm>
            <a:off x="108000" y="438120"/>
            <a:ext cx="8928000" cy="119124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entury Gothic"/>
                <a:ea typeface="Arial"/>
              </a:rPr>
              <a:t>Elektroniczny rejestr podmiotów sektora utylizacyjnego zatwierdzonych/zarejestrowanych zgodnie z Rozporządzeniem 1069/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Picture 4" descr="C:\Users\krzysztof.bednarczyk\Desktop\Przechwytywanie.JPG"/>
          <p:cNvPicPr/>
          <p:nvPr/>
        </p:nvPicPr>
        <p:blipFill>
          <a:blip r:embed="rId1"/>
          <a:stretch/>
        </p:blipFill>
        <p:spPr>
          <a:xfrm>
            <a:off x="108000" y="2060640"/>
            <a:ext cx="8928000" cy="295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TextBox 1"/>
          <p:cNvSpPr/>
          <p:nvPr/>
        </p:nvSpPr>
        <p:spPr>
          <a:xfrm>
            <a:off x="324000" y="260280"/>
            <a:ext cx="8424720" cy="64260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Century Gothic"/>
                <a:ea typeface="Arial"/>
              </a:rPr>
              <a:t>Tema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Box 2"/>
          <p:cNvSpPr/>
          <p:nvPr/>
        </p:nvSpPr>
        <p:spPr>
          <a:xfrm>
            <a:off x="324000" y="1125360"/>
            <a:ext cx="8332560" cy="522936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80000"/>
              </a:lnSpc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d9d9d9"/>
                </a:solidFill>
                <a:latin typeface="Century Gothic"/>
                <a:ea typeface="Arial"/>
              </a:rPr>
              <a:t>Nowe zasady eksportu PAP do krajów trzeci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d9d9d9"/>
                </a:solidFill>
                <a:latin typeface="Century Gothic"/>
                <a:ea typeface="Arial"/>
              </a:rPr>
              <a:t>Urzędowe badania laboratoryjne produktów z krwi (ML, PC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d9d9d9"/>
                </a:solidFill>
                <a:latin typeface="Century Gothic"/>
                <a:ea typeface="Arial"/>
              </a:rPr>
              <a:t>Dane produkcyjne UPPZ i wykorzystanie P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d9d9d9"/>
                </a:solidFill>
                <a:latin typeface="Century Gothic"/>
                <a:ea typeface="Arial"/>
              </a:rPr>
              <a:t>Kontrole podmiotów sektora utylizacyjne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d9d9d9"/>
                </a:solidFill>
                <a:latin typeface="Century Gothic"/>
                <a:ea typeface="Arial"/>
              </a:rPr>
              <a:t>Zmiana częstotliwości oraz modelu kontroli – kontrola UPPZ w rzeźni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d9d9d9"/>
                </a:solidFill>
                <a:latin typeface="Century Gothic"/>
                <a:ea typeface="Arial"/>
              </a:rPr>
              <a:t>Dokumenty handlowe w transporcie UPPZ/PP - wzór D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d9d9d9"/>
                </a:solidFill>
                <a:latin typeface="Century Gothic"/>
                <a:ea typeface="Arial"/>
              </a:rPr>
              <a:t>     </a:t>
            </a:r>
            <a:r>
              <a:rPr b="0" lang="pl-PL" sz="1800" spc="-1" strike="noStrike">
                <a:solidFill>
                  <a:srgbClr val="d9d9d9"/>
                </a:solidFill>
                <a:latin typeface="Century Gothic"/>
                <a:ea typeface="Arial"/>
              </a:rPr>
              <a:t>oraz produkty spożywcze przekwalifikowane do utylizacji</a:t>
            </a:r>
            <a:br>
              <a:rPr sz="1800"/>
            </a:br>
            <a:r>
              <a:rPr b="0" lang="pl-PL" sz="1800" spc="-1" strike="noStrike">
                <a:solidFill>
                  <a:srgbClr val="d9d9d9"/>
                </a:solidFill>
                <a:latin typeface="Century Gothic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d9d9d9"/>
                </a:solidFill>
                <a:latin typeface="Century Gothic"/>
                <a:ea typeface="Arial"/>
              </a:rPr>
              <a:t>Handel UPPZ między zakładami przetwórczy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d9d9d9"/>
                </a:solidFill>
                <a:latin typeface="Century Gothic"/>
                <a:ea typeface="Arial"/>
              </a:rPr>
              <a:t>Aktualna sytuacja wykrywania nielegalnego stosowania mącz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d9d9d9"/>
                </a:solidFill>
                <a:latin typeface="Century Gothic"/>
                <a:ea typeface="Arial"/>
              </a:rPr>
              <a:t>Elektroniczny Rejestr Podmiotów Sektora Utylizacyjneg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TR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entury Gothic"/>
              </a:rPr>
              <a:t>TRA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entury Gothic"/>
                <a:ea typeface="Arial"/>
              </a:rPr>
              <a:t>Od 2012 roku możliwość używania w handlu wewnątrzwspólnotowym do powiadomień w systemie TRACES o przesyłkach UPPZ – aplikacji DOCOM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entury Gothic"/>
                <a:ea typeface="Arial"/>
              </a:rPr>
              <a:t>Przekazanie uprawnień podmiotom gospodarczym do wystawiania DOCOM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entury Gothic"/>
              </a:rPr>
              <a:t>TRA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entury Gothic"/>
                <a:ea typeface="Arial"/>
              </a:rPr>
              <a:t>Od 2012 roku możliwość używania w handlu wewnątrzwspólnotowym do powiadomień w systemie TRACES o przesyłkach UPPZ – aplikacji DOCOM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entury Gothic"/>
                <a:ea typeface="Arial"/>
              </a:rPr>
              <a:t>Przekazanie uprawnień podmiotom gospodarczym do wystawiania DOCOM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entury Gothic"/>
              </a:rPr>
              <a:t>TRA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0000"/>
                </a:solidFill>
                <a:uFillTx/>
                <a:latin typeface="Century Gothic"/>
                <a:ea typeface="Arial"/>
              </a:rPr>
              <a:t>Przy wystawianiu TRACES należy zwracać szczególną uwagę na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entury Gothic"/>
                <a:ea typeface="Arial"/>
              </a:rPr>
              <a:t>prawidłowości danych dotyczących miejsca pochodzenia i miejsca przeznaczen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entury Gothic"/>
                <a:ea typeface="Arial"/>
              </a:rPr>
              <a:t>danych przewoźnik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entury Gothic"/>
                <a:ea typeface="Arial"/>
              </a:rPr>
              <a:t>dokument handlowy powinien być wystawiony w ciągu 24 godzin od wysyłki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4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Dokument TRACES jako D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8" name="Picture 2" descr=""/>
          <p:cNvPicPr/>
          <p:nvPr/>
        </p:nvPicPr>
        <p:blipFill>
          <a:blip r:embed="rId1"/>
          <a:stretch/>
        </p:blipFill>
        <p:spPr>
          <a:xfrm>
            <a:off x="179280" y="836640"/>
            <a:ext cx="8498160" cy="583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368360"/>
          </a:xfrm>
          <a:prstGeom prst="rect">
            <a:avLst/>
          </a:prstGeom>
          <a:noFill/>
          <a:ln w="9360">
            <a:solidFill>
              <a:srgbClr val="8eb4e3"/>
            </a:solidFill>
            <a:miter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entury Gothic"/>
              </a:rPr>
              <a:t>System TRACES a zgoda kompetentnych władz państwa członkowskiego na przywóz ubocznych produktów zwierzęcych oraz produktów pochodnych (art. 48 rozporządzenia (WE) nr 1069/2009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00" name=""/>
          <p:cNvGraphicFramePr/>
          <p:nvPr/>
        </p:nvGraphicFramePr>
        <p:xfrm>
          <a:off x="0" y="1981080"/>
          <a:ext cx="9144000" cy="4927680"/>
        </p:xfrm>
        <a:graphic>
          <a:graphicData uri="http://schemas.openxmlformats.org/drawingml/2006/table">
            <a:tbl>
              <a:tblPr/>
              <a:tblGrid>
                <a:gridCol w="2843280"/>
                <a:gridCol w="3252600"/>
                <a:gridCol w="3048120"/>
              </a:tblGrid>
              <a:tr h="11224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Zgod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kompetentnyc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władz kraj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przeznaczen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TRA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365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Kat.1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TA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TA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5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Kat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TA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TA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5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Kat.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NI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NI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20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Mączki mięsno-kostn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i tłuszcze kat.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TA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TA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28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Mączki mięsno-kostn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i tłuszcze kat.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TA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TA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5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PA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NI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TA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5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Tłuszcze kat.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NI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NI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5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Obornik nieprzetworzon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TA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TA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5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Obornik przetworzon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NI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NI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Prostokąt 2" descr=""/>
          <p:cNvPicPr/>
          <p:nvPr/>
        </p:nvPicPr>
        <p:blipFill>
          <a:blip r:embed="rId1"/>
          <a:stretch/>
        </p:blipFill>
        <p:spPr>
          <a:xfrm>
            <a:off x="755640" y="3790800"/>
            <a:ext cx="7686720" cy="92088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3" descr="http://przedszkole13.eu/wp-content/uploads/2011/08/choinka-swiateczna.jpg.gif"/>
          <p:cNvPicPr/>
          <p:nvPr/>
        </p:nvPicPr>
        <p:blipFill>
          <a:blip r:embed="rId2"/>
          <a:stretch/>
        </p:blipFill>
        <p:spPr>
          <a:xfrm>
            <a:off x="3276720" y="620640"/>
            <a:ext cx="2600280" cy="265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entury Gothic"/>
                <a:ea typeface="Arial"/>
              </a:rPr>
              <a:t>Zmiany procedur eksportu PAP z krajów członkowskich UE do krajów trzeci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11280" y="1412640"/>
            <a:ext cx="78184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entury Gothic"/>
                <a:ea typeface="Arial"/>
              </a:rPr>
              <a:t>Eksport może się odbywać z zakładu przetwórczego kat. 3, w którym przetwarza się materiał kat. 3 </a:t>
            </a:r>
            <a:r>
              <a:rPr b="0" lang="pl-PL" sz="2400" spc="-1" strike="noStrike" u="sng">
                <a:solidFill>
                  <a:srgbClr val="ff0000"/>
                </a:solidFill>
                <a:uFillTx/>
                <a:latin typeface="Century Gothic"/>
                <a:ea typeface="Arial"/>
              </a:rPr>
              <a:t>pozyskany z różnych gatunków zwierząt </a:t>
            </a:r>
            <a:r>
              <a:rPr b="0" lang="pl-PL" sz="2400" spc="-1" strike="noStrike">
                <a:solidFill>
                  <a:srgbClr val="000000"/>
                </a:solidFill>
                <a:latin typeface="Century Gothic"/>
                <a:ea typeface="Arial"/>
              </a:rPr>
              <a:t>(w tym z przeżuwaczy), o ile uzyskał on </a:t>
            </a:r>
            <a:r>
              <a:rPr b="0" lang="pl-PL" sz="2400" spc="-1" strike="noStrike" u="sng">
                <a:solidFill>
                  <a:srgbClr val="c00000"/>
                </a:solidFill>
                <a:uFillTx/>
                <a:latin typeface="Century Gothic"/>
                <a:ea typeface="Arial"/>
              </a:rPr>
              <a:t>zezwolenie właściwego PLW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entury Gothic"/>
                <a:ea typeface="Arial"/>
              </a:rPr>
              <a:t>Zmiany procedur eksportu PAP z krajów członkowskich UE do krajów trzeci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11280" y="1412640"/>
            <a:ext cx="78184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 u="sng">
                <a:solidFill>
                  <a:srgbClr val="000000"/>
                </a:solidFill>
                <a:uFillTx/>
                <a:latin typeface="Century Gothic"/>
                <a:ea typeface="Arial"/>
              </a:rPr>
              <a:t>Warunki zezwolenia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entury Gothic"/>
                <a:ea typeface="Arial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Century Gothic"/>
                <a:ea typeface="Arial"/>
              </a:rPr>
              <a:t>Kontrola fizyczna PLW potwierdzająca wprowadzenie </a:t>
            </a:r>
            <a:r>
              <a:rPr b="0" lang="pl-PL" sz="2400" spc="-1" strike="noStrike">
                <a:solidFill>
                  <a:srgbClr val="c00000"/>
                </a:solidFill>
                <a:latin typeface="Century Gothic"/>
                <a:ea typeface="Arial"/>
              </a:rPr>
              <a:t>środków zapobiegawczych </a:t>
            </a:r>
            <a:r>
              <a:rPr b="0" lang="pl-PL" sz="2400" spc="-1" strike="noStrike">
                <a:solidFill>
                  <a:srgbClr val="000000"/>
                </a:solidFill>
                <a:latin typeface="Century Gothic"/>
                <a:ea typeface="Arial"/>
              </a:rPr>
              <a:t>gwarantujących, że nie dojdzie do zanieczyszczenia krzyżowego materiału z przeżuwaczy i nie-przeżuwacz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71280" y="115560"/>
            <a:ext cx="749916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entury Gothic"/>
                <a:ea typeface="Arial"/>
              </a:rPr>
              <a:t>Zmiany procedur eksportu PAP z krajów członkowskich UE do krajów trzecic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539640" y="836280"/>
            <a:ext cx="781848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 u="sng">
                <a:solidFill>
                  <a:srgbClr val="000000"/>
                </a:solidFill>
                <a:uFillTx/>
                <a:latin typeface="Century Gothic"/>
                <a:ea typeface="Arial"/>
              </a:rPr>
              <a:t>Środki zapobiegawcze obejmują przynajmniej następujące wymogi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entury Gothic"/>
                <a:ea typeface="Arial"/>
              </a:rPr>
              <a:t>produkcja PAP od przeżuwaczy musi odbywać się w zamkniętym systemie, który jest </a:t>
            </a:r>
            <a:r>
              <a:rPr b="1" lang="pl-PL" sz="1400" spc="-1" strike="noStrike" u="sng">
                <a:solidFill>
                  <a:srgbClr val="339966"/>
                </a:solidFill>
                <a:uFillTx/>
                <a:latin typeface="Century Gothic"/>
                <a:ea typeface="Arial"/>
              </a:rPr>
              <a:t>fizycznie oddzielony </a:t>
            </a:r>
            <a:r>
              <a:rPr b="0" lang="pl-PL" sz="1400" spc="-1" strike="noStrike">
                <a:solidFill>
                  <a:srgbClr val="000000"/>
                </a:solidFill>
                <a:latin typeface="Century Gothic"/>
                <a:ea typeface="Arial"/>
              </a:rPr>
              <a:t>od systemu wykorzystywanego do produkcji PAP dla innych gatunków zwierzą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entury Gothic"/>
                <a:ea typeface="Arial"/>
              </a:rPr>
              <a:t>UPPZ od przeżuwaczy są przechowywane podczas składowania i przewozu w pomieszczeniach, które są </a:t>
            </a:r>
            <a:r>
              <a:rPr b="1" lang="pl-PL" sz="1400" spc="-1" strike="noStrike" u="sng">
                <a:solidFill>
                  <a:srgbClr val="339966"/>
                </a:solidFill>
                <a:uFillTx/>
                <a:latin typeface="Century Gothic"/>
                <a:ea typeface="Arial"/>
              </a:rPr>
              <a:t>fizycznie oddzielone </a:t>
            </a:r>
            <a:r>
              <a:rPr b="0" lang="pl-PL" sz="1400" spc="-1" strike="noStrike">
                <a:solidFill>
                  <a:srgbClr val="000000"/>
                </a:solidFill>
                <a:latin typeface="Century Gothic"/>
                <a:ea typeface="Arial"/>
              </a:rPr>
              <a:t>od tych przeznaczonych dla UPPZ od zwierząt innych niż przeżuwacz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entury Gothic"/>
                <a:ea typeface="Arial"/>
              </a:rPr>
              <a:t>PAP od przeżuwaczy jest przechowywane podczas składowania i pakowania w pomieszczeniach, które są </a:t>
            </a:r>
            <a:r>
              <a:rPr b="1" lang="pl-PL" sz="1400" spc="-1" strike="noStrike" u="sng">
                <a:solidFill>
                  <a:srgbClr val="339966"/>
                </a:solidFill>
                <a:uFillTx/>
                <a:latin typeface="Century Gothic"/>
                <a:ea typeface="Arial"/>
              </a:rPr>
              <a:t>fizycznie oddzielone </a:t>
            </a:r>
            <a:r>
              <a:rPr b="0" lang="pl-PL" sz="1400" spc="-1" strike="noStrike">
                <a:solidFill>
                  <a:srgbClr val="000000"/>
                </a:solidFill>
                <a:latin typeface="Century Gothic"/>
                <a:ea typeface="Arial"/>
              </a:rPr>
              <a:t>od tych przeznaczonych dla PP od zwierząt innych niż przeżuwacz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entury Gothic"/>
                <a:ea typeface="Arial"/>
              </a:rPr>
              <a:t>należy regularnie przeprowadzać </a:t>
            </a:r>
            <a:r>
              <a:rPr b="1" lang="pl-PL" sz="1400" spc="-1" strike="noStrike" u="sng">
                <a:solidFill>
                  <a:srgbClr val="339966"/>
                </a:solidFill>
                <a:uFillTx/>
                <a:latin typeface="Century Gothic"/>
                <a:ea typeface="Arial"/>
              </a:rPr>
              <a:t>pobieranie i analizę próbek PAP</a:t>
            </a:r>
            <a:r>
              <a:rPr b="0" lang="pl-PL" sz="1400" spc="-1" strike="noStrike">
                <a:solidFill>
                  <a:srgbClr val="000000"/>
                </a:solidFill>
                <a:latin typeface="Century Gothic"/>
                <a:ea typeface="Arial"/>
              </a:rPr>
              <a:t>, w celu zweryfikowania nieobecności zanieczyszczenia krzyżowego PAP-em od przeżuwaczy, wykorzystując metody analizy dotyczące oznaczania składników pochodzenia zwierzęcego do celów kontroli pasz określone w załączniku VI do rozporządzenia (WE) nr 152/2009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entury Gothic"/>
                <a:ea typeface="Arial"/>
              </a:rPr>
              <a:t>częstotliwość pobierania i analizowania próbek określa się na podstawie </a:t>
            </a:r>
            <a:r>
              <a:rPr b="1" lang="pl-PL" sz="1400" spc="-1" strike="noStrike" u="sng">
                <a:solidFill>
                  <a:srgbClr val="339966"/>
                </a:solidFill>
                <a:uFillTx/>
                <a:latin typeface="Century Gothic"/>
                <a:ea typeface="Arial"/>
              </a:rPr>
              <a:t>oceny ryzyka </a:t>
            </a:r>
            <a:r>
              <a:rPr b="0" lang="pl-PL" sz="1400" spc="-1" strike="noStrike">
                <a:solidFill>
                  <a:srgbClr val="000000"/>
                </a:solidFill>
                <a:latin typeface="Century Gothic"/>
                <a:ea typeface="Arial"/>
              </a:rPr>
              <a:t>przeprowadzonej przez podmiot gospodarczy w ramach procedur opartych na HACC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entury Gothic"/>
                <a:ea typeface="Arial"/>
              </a:rPr>
              <a:t>wyniki takiego pobierania i analizowania próbek są przechowywane do udostępnienia właściwemu organowi przez okres </a:t>
            </a:r>
            <a:r>
              <a:rPr b="1" lang="pl-PL" sz="1400" spc="-1" strike="noStrike" u="sng">
                <a:solidFill>
                  <a:srgbClr val="339966"/>
                </a:solidFill>
                <a:uFillTx/>
                <a:latin typeface="Century Gothic"/>
                <a:ea typeface="Arial"/>
              </a:rPr>
              <a:t>co najmniej pięciu lat</a:t>
            </a:r>
            <a:r>
              <a:rPr b="0" lang="pl-PL" sz="1400" spc="-1" strike="noStrike">
                <a:solidFill>
                  <a:srgbClr val="000000"/>
                </a:solidFill>
                <a:latin typeface="Century Gothic"/>
                <a:ea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4T20:11:11Z</dcterms:created>
  <dc:creator>REPS-BEDNARCZYK Anna</dc:creator>
  <dc:description/>
  <dc:language>en-US</dc:language>
  <cp:lastModifiedBy>Michal Cierpialowski</cp:lastModifiedBy>
  <dcterms:modified xsi:type="dcterms:W3CDTF">2018-01-06T22:13:51Z</dcterms:modified>
  <cp:revision>169</cp:revision>
  <dc:subject/>
  <dc:title>PowerPoint Presentation</dc:title>
</cp:coreProperties>
</file>